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0D0A-374C-4767-85E4-1AC69A1F7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5FAA-9667-4D99-95A1-3DE92EA371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82E5-8CF3-4F7D-93DC-6A0B285D8B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2D23-AAB1-4455-B90D-E357939CC3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BBF-E9A6-4999-8C43-5504D823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33E-B448-49F0-9D6C-70352F59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234-13F2-4595-8495-ABAFC669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D93-5EF3-4047-9F6A-CFDE2956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75F4-C955-4BC9-9D08-D9787D5C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E817-F5B5-49AE-9507-80AEE9B4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84B9-1837-4157-8B5B-A1D703A2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5A08-ED3D-4081-91CC-39C46DB5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D7AE-8854-4F4F-B682-81CBEEED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B389-E101-46D5-9D2B-F5778CE0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0AF3-0DAA-4B01-8BAA-675B8637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B39-381A-448E-81E8-B453A66D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831D-C775-44EB-8A24-D3D14C6C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2DBB-D826-46FF-9C43-DCFAA265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7DD3-B7C6-4ADB-B260-ED7AF617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BCC1-651F-4522-A981-249A09BA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3BA9-A297-4EBA-8DAB-5C40B696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71533-77E9-4D61-B58C-8D97AB92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4D95-E117-495C-AE97-270F0A79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8C0DD-726F-4EC5-AEAC-9F265C50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BAC9E-544C-49D6-9F96-61F75F6A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C66EF-1A63-4FC7-8153-E55C00E4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041-51DF-440C-96E5-70B435F3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7818C-3B24-426A-AF63-276FEDD9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20CBD-921A-4C71-B0E8-8A7FFB71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738D-B308-4B23-A48F-0817787B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CAE6E-1465-4D47-8123-A846B710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5162C-ED12-4301-AEE7-B2AB34B9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02C8B-62C1-47EE-980C-7DB33F33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45BEB-BE4F-429F-A16F-33D08884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5B78C-52F4-431A-A767-0DC44614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073D4-4BF0-430B-ABEF-5BB86D62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5E28A-C8B7-46E7-A7F4-9F13067F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941-D141-493C-A06F-0C220531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64C9D-D10A-4C6D-9CE8-22EE5D9E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A2041-4A97-4FA4-A21A-40F4EF28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9A517-B8C9-46CA-BD0C-F785CD6F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9A937-86F8-488F-AC42-F2854107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F9B5B-0691-461A-9F54-43804C31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1603D-4B77-48D6-9922-C33F756A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11FC6-41C6-4270-851A-CB7507CC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B6564-BAD6-4ABF-8916-4D5C2162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A59AD-CB6B-452B-A374-327B9C64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A7ED1-A4D6-40EC-80C5-AD0C0335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435E-61EC-4FF9-A042-04946FF9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0C748-9063-461B-9789-9B50D18D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925C4-AA57-471C-B122-B66DC9FA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0E2DE-262E-493B-A5CF-85404171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A4AE1-5CB4-4B55-AF13-F2F3F051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FA4B6-1DFC-4E9F-887B-28B39BAA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9DFD8-CC80-47BB-8D39-55513803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A739F-B4A9-48D2-A2A1-DA8E1C2E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61544-D22E-4F18-B97B-8DAC1EA7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A20E8-E1CC-485D-8F4B-BBBA9B22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F7239-2F2F-41F1-8D37-B8178212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B1D4-71A1-40A5-8A68-19CAD8AD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E4794-803B-424B-9956-ED733F89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9D7-AF25-4527-9406-39AB408A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DB9-F389-4793-903D-5BD424E7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59F0-AA64-4AAD-A99E-C9805B4E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8D74-382A-4E6A-BE43-BC44E3708C8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AAF1-8261-413C-9DC8-9D8B3E94453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9385-CF31-4D8B-A357-212650577E5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CD8D-8C34-4C0F-9E14-D685BDBA3F0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F6A1-7DD7-4E33-954A-59BF45D9864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47636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Verdana"/>
              </a:rPr>
              <a:t>NEONATALNE KONVULZIJ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3429000" y="3429000"/>
            <a:ext cx="50720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Zoran Igrutinovi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Medicinski fakult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linika za pedijatrij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ragujeva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8" descr=""/>
          <p:cNvPicPr/>
          <p:nvPr/>
        </p:nvPicPr>
        <p:blipFill>
          <a:blip r:embed="rId1"/>
          <a:stretch/>
        </p:blipFill>
        <p:spPr>
          <a:xfrm>
            <a:off x="1000080" y="4000680"/>
            <a:ext cx="1085760" cy="116496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5"/>
          <p:cNvGrpSpPr/>
          <p:nvPr/>
        </p:nvGrpSpPr>
        <p:grpSpPr>
          <a:xfrm>
            <a:off x="857160" y="2143080"/>
            <a:ext cx="1440000" cy="1368360"/>
            <a:chOff x="857160" y="2143080"/>
            <a:chExt cx="1440000" cy="1368360"/>
          </a:xfrm>
        </p:grpSpPr>
        <p:sp>
          <p:nvSpPr>
            <p:cNvPr id="231" name="Oval 6"/>
            <p:cNvSpPr/>
            <p:nvPr/>
          </p:nvSpPr>
          <p:spPr>
            <a:xfrm>
              <a:off x="857160" y="2143080"/>
              <a:ext cx="1440000" cy="135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32" name="Picture 7" descr="viewer 1"/>
            <p:cNvPicPr/>
            <p:nvPr/>
          </p:nvPicPr>
          <p:blipFill>
            <a:blip r:embed="rId2"/>
            <a:stretch/>
          </p:blipFill>
          <p:spPr>
            <a:xfrm>
              <a:off x="857160" y="2143080"/>
              <a:ext cx="144000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00040" y="928800"/>
            <a:ext cx="8183520" cy="492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99ffcc"/>
                </a:solidFill>
                <a:latin typeface="Verdana"/>
              </a:rPr>
              <a:t>DIJAGNOZ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ora se sprovesti brzo zbog oboljenja koja zahtevaju urgentnu terapiju (meningitis, metabolički poremećaj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d velike su važnosti anamnestički podaci o toku trudnoće i porodjaja, kao i objektivni neuropedijatrijski pregl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Biohemijska ispitivanja (glikemija, elektrolit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Lumbalna punk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Ultrazvučni pregled moz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od 10-30% slučajeva etiologija ostaje nepozn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6836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99ffcc"/>
                </a:solidFill>
                <a:latin typeface="Verdana"/>
              </a:rPr>
              <a:t>Akutna terapija neonatalnih konvulz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Hipoglikemija: glukoza 25% 2ml/kg (0,5 g/kg) i.v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Bez hipoglikemije: Ca glukonat, 5% solucija 4ml/kg i.v.; magnezijum sulfat 50% solucija 0,1-0,2 ml/kg i.m.; piridoksin 50-100 mg, i.v.; phenobarbiton 15-20 mg/kg i.v. ili i.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o potrebi fenobarbiton može da se ponovi u dozi 5-20 mg/kg, ali u ukupnoj dozi do 40 mg/k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Za održavanja antikonvulzivnog efekta primenjuje se phenobarbiton u dozi 3-6 mg/kg/dan/2 do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Rizik za pojavu epilepsije kod dece sa HIE je 30%, a kod razvojnih anomalija mozga skoro 10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Konvulzije usled hipoglikemije ili hipokalcemije ne povećavaju rizik za kasniju pojavu epilepsi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6836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Verdana"/>
              </a:rPr>
              <a:t>Prognoza neonatalnih konvulzija u odnosu na etiologiju (procenat normalnog psihomotornog razvoj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Hipoksično-ishemična encefalopatija   5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ntraventrikularna hemoragija            1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rimarna subarahnoidalna hemoragija 9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Hipokalcemija – rana                         5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Hipokalcemija – kasna                      10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Hipoglikemija                                    5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Bakterijski meningitis                         5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Razvojne anomalije mozga                   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Benigne familijarne konvulzije             95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6836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sr-Latn-CS" sz="4800" spc="-1" strike="noStrike">
                <a:solidFill>
                  <a:srgbClr val="0070c0"/>
                </a:solidFill>
                <a:latin typeface="Verdana"/>
              </a:rPr>
              <a:t>FEBRILNE KONVULZIJE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Verdana"/>
              </a:rPr>
              <a:t>Jedan od najčešćih neuroloških poremećaja male de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Verdana"/>
              </a:rPr>
              <a:t>FK- Konvulzije koje nastaju pri povišenoj temperaturi u toku akutnih infekcija koje primarno ne zahvataju C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Verdana"/>
              </a:rPr>
              <a:t>Najćešće su akutne infekcije gornjih respiratornih puteva, redje urinarne ili gastrointestinal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Verdana"/>
              </a:rPr>
              <a:t>Genetska ispitivanja su pokazala da postoji porodična predispozicija prema febrilnim konvulzijama, odnosno familijarno snižen konvulzivni pra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8" descr="termo-ok"/>
          <p:cNvPicPr/>
          <p:nvPr/>
        </p:nvPicPr>
        <p:blipFill>
          <a:blip r:embed="rId1"/>
          <a:stretch/>
        </p:blipFill>
        <p:spPr>
          <a:xfrm>
            <a:off x="571680" y="3786120"/>
            <a:ext cx="1631880" cy="2286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247" name="Picture 9" descr="rocket"/>
          <p:cNvPicPr/>
          <p:nvPr/>
        </p:nvPicPr>
        <p:blipFill>
          <a:blip r:embed="rId2"/>
          <a:stretch/>
        </p:blipFill>
        <p:spPr>
          <a:xfrm>
            <a:off x="3286080" y="3786120"/>
            <a:ext cx="1984320" cy="2286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248" name="Picture 7" descr="brain-zraci"/>
          <p:cNvPicPr/>
          <p:nvPr/>
        </p:nvPicPr>
        <p:blipFill>
          <a:blip r:embed="rId3"/>
          <a:stretch/>
        </p:blipFill>
        <p:spPr>
          <a:xfrm>
            <a:off x="6143760" y="3786120"/>
            <a:ext cx="2500200" cy="22798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49" name="AutoShape 10"/>
          <p:cNvSpPr/>
          <p:nvPr/>
        </p:nvSpPr>
        <p:spPr>
          <a:xfrm>
            <a:off x="2000160" y="5500800"/>
            <a:ext cx="1524240" cy="457200"/>
          </a:xfrm>
          <a:custGeom>
            <a:avLst/>
            <a:gdLst>
              <a:gd name="textAreaLeft" fmla="*/ 190440 w 1524240"/>
              <a:gd name="textAreaRight" fmla="*/ 1333800 w 15242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d1503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4929120" y="4214880"/>
            <a:ext cx="1524240" cy="457200"/>
          </a:xfrm>
          <a:custGeom>
            <a:avLst/>
            <a:gdLst>
              <a:gd name="textAreaLeft" fmla="*/ 190440 w 1524240"/>
              <a:gd name="textAreaRight" fmla="*/ 1333800 w 15242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d1503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12aa"/>
          <p:cNvPicPr/>
          <p:nvPr/>
        </p:nvPicPr>
        <p:blipFill>
          <a:blip r:embed="rId1"/>
          <a:stretch/>
        </p:blipFill>
        <p:spPr>
          <a:xfrm>
            <a:off x="0" y="-16344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3"/>
          <p:cNvSpPr/>
          <p:nvPr/>
        </p:nvSpPr>
        <p:spPr>
          <a:xfrm>
            <a:off x="3114720" y="38268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NCIDEN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1825200" y="4732200"/>
            <a:ext cx="567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2-5% dece mlađe od 5 godina ima F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Učestalost FK je najčešća 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žute rase (7%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zatim crne (4.2%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a najređa u bele (3.5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15" descr="Globus - ok"/>
          <p:cNvPicPr/>
          <p:nvPr/>
        </p:nvPicPr>
        <p:blipFill>
          <a:blip r:embed="rId2"/>
          <a:stretch/>
        </p:blipFill>
        <p:spPr>
          <a:xfrm>
            <a:off x="1981080" y="1523880"/>
            <a:ext cx="5181840" cy="29289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55" name="AutoShape 16"/>
          <p:cNvSpPr/>
          <p:nvPr/>
        </p:nvSpPr>
        <p:spPr>
          <a:xfrm>
            <a:off x="3657600" y="2108160"/>
            <a:ext cx="1676520" cy="457200"/>
          </a:xfrm>
          <a:prstGeom prst="flowChartTerminator">
            <a:avLst/>
          </a:prstGeom>
          <a:solidFill>
            <a:srgbClr val="fd1503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3972240" y="205740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imes New Roman"/>
              </a:rPr>
              <a:t>2-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12aa"/>
          <p:cNvPicPr/>
          <p:nvPr/>
        </p:nvPicPr>
        <p:blipFill>
          <a:blip r:embed="rId1"/>
          <a:stretch/>
        </p:blipFill>
        <p:spPr>
          <a:xfrm>
            <a:off x="0" y="-16344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3"/>
          <p:cNvSpPr/>
          <p:nvPr/>
        </p:nvSpPr>
        <p:spPr>
          <a:xfrm>
            <a:off x="2615400" y="382680"/>
            <a:ext cx="43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NASLEDJIVANJE F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80880" y="1381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*učestalost FK među članovima už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porodice propozitusa iznosi 10-31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*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poligenski multifaktorijalni način nasleđivanja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: pri čemu jedan ili više gena u interakciji sa faktorima spoljne sredine uslovljavaju nastanak F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Picture 5" descr="porodica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676520" y="4114800"/>
            <a:ext cx="2514600" cy="24382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61" name="AutoShape 6"/>
          <p:cNvSpPr/>
          <p:nvPr/>
        </p:nvSpPr>
        <p:spPr>
          <a:xfrm>
            <a:off x="2438280" y="4191120"/>
            <a:ext cx="838440" cy="406440"/>
          </a:xfrm>
          <a:prstGeom prst="flowChartTerminator">
            <a:avLst/>
          </a:prstGeom>
          <a:solidFill>
            <a:srgbClr val="fd1503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2518200" y="419112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8" descr="bebe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419720" y="4724280"/>
            <a:ext cx="3017880" cy="18525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64" name="AutoShape 9"/>
          <p:cNvSpPr/>
          <p:nvPr/>
        </p:nvSpPr>
        <p:spPr>
          <a:xfrm>
            <a:off x="5562720" y="6095880"/>
            <a:ext cx="838080" cy="406440"/>
          </a:xfrm>
          <a:prstGeom prst="flowChartTerminator">
            <a:avLst/>
          </a:prstGeom>
          <a:solidFill>
            <a:srgbClr val="fd1503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5642280" y="609588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Najčešće se ispoljavaju u uzrastu 6 meseci do 3 god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Obično se javljaju prvog dana bolesti, a nekad su i prvi znak febril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Telesna temperatura je uvek iznad 3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5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najniže 37,8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Konvulzije su obično generalizovane tonično-klonične (80%), redje fokalne ili unilateralne (3-29%), ponekad u vidu opšte mlitavosti (4-9%) ili ukoče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Traju najčešće nekoliko minuta, redje do pola sata, a izuzetno i duž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Klinički oporavak posle prestanka febrilnih konvulzija najčešće je brz i potpu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Febrilne konvulzije mogu bit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Tipič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Atipič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66"/>
                </a:solidFill>
                <a:latin typeface="Verdana"/>
              </a:rPr>
              <a:t>Atipične febrilne konvulzi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ojava konvulzija pre prve i posle pete godi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Trajanje duže od 15 minu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Dva ili više konvulzivna ataka pri istoj febril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Tri ili više napada febrilnih konvulzija u različitim febrilnim stanji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Deca sa atipičnim febrilnim konvulzijama imaju predispoziciju za epilepsij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2876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učestalost 1,5-14 / 1000 porodja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klinička prezentacija različita u odnosu na odraslu decu ( mijelinizacija se tek razvija, sinapse nisu dovoljno razvijene, početak je većinom u moždanom stablu sa slabom propagacijom prema korteksu, pražnjenja u korteksu ostaju lokalizovana zbog slabo razvijenih sinaps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12aa"/>
          <p:cNvPicPr/>
          <p:nvPr/>
        </p:nvPicPr>
        <p:blipFill>
          <a:blip r:embed="rId1"/>
          <a:stretch/>
        </p:blipFill>
        <p:spPr>
          <a:xfrm>
            <a:off x="0" y="-16344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2250360" y="1800"/>
            <a:ext cx="414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ahoma"/>
              </a:rPr>
              <a:t>KLASIFIKACIJA F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762120" y="1285920"/>
          <a:ext cx="7772400" cy="4722840"/>
        </p:xfrm>
        <a:graphic>
          <a:graphicData uri="http://schemas.openxmlformats.org/drawingml/2006/table">
            <a:tbl>
              <a:tblPr/>
              <a:tblGrid>
                <a:gridCol w="2247840"/>
                <a:gridCol w="2820960"/>
                <a:gridCol w="2703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BELEŽ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IPIČ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TIPIČ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uzr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od 6 meseci do 5 god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pre 6 meseci i posle 5 god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tip nap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generalizovani nap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parcijalni (fokaln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trajanje nap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do 15 m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duže od 15 min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broj nap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jedan u toku iste febri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2 ili više u toku iste feb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prethodni poda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bez oštećenja CNS-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stečene lezije C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klinički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uredan pre nap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RPM, DCO pre prvog nap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postiktualni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Cooper Bold YU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brz oporavak i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blaga somnolenc. i konfu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Cooper Bold YU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poriji oporava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Todd-ova paraliz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cc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EEG nala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cc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normalan interiktal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izmenjen, prethodna lez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recidi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ne više od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3 i viš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učestal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8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porodična anamne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b.o. ili podaci o tipičnim F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pojava atipičnih FK i E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66"/>
                </a:solidFill>
                <a:latin typeface="Verdana"/>
              </a:rPr>
              <a:t>Dijagnoza se postavlja na osnovu sledećih postupaka: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scrpni anamnestički podaci o izgledu napada, dotadašnjem razvoju i oboljenjima deteta, kao i heredodegenerativnim bolestima u porodic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Kompletan pedijatrijski i neurološki preg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Laboratorijske analize: SE, KKS, urin, ureja, kreatinin, glikemija, jonogram, Ca, P, alkalna fosfataza, transamina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Eventualno pregled očnog dana i lumbalna punkc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EEG se radi kod atipičnih konvulzija 10 dana po normalizaciji temper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4" descr="EEG"/>
          <p:cNvPicPr/>
          <p:nvPr/>
        </p:nvPicPr>
        <p:blipFill>
          <a:blip r:embed="rId1"/>
          <a:stretch/>
        </p:blipFill>
        <p:spPr>
          <a:xfrm>
            <a:off x="5643720" y="4429080"/>
            <a:ext cx="1904760" cy="142884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7120" y="2000160"/>
            <a:ext cx="832968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EEG tokom prve nedelje nakon napada</a:t>
            </a:r>
            <a:br>
              <a:rPr sz="2000"/>
            </a:b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- normalan nalaz u 50-71% dece (Rodžer 1985.)</a:t>
            </a:r>
            <a:br>
              <a:rPr sz="2000"/>
            </a:b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- spora aktivnost najčešće obostrana u 20-33%</a:t>
            </a:r>
            <a:br>
              <a:rPr sz="2000"/>
            </a:b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- epileptiformna pražnjenja (ŠTK) su retka </a:t>
            </a:r>
            <a:br>
              <a:rPr sz="2000"/>
            </a:br>
            <a:r>
              <a:rPr b="1" lang="en-US" sz="2000" spc="-1" strike="noStrike">
                <a:solidFill>
                  <a:srgbClr val="771f28"/>
                </a:solidFill>
                <a:latin typeface="Verdana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771f28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EEG nalazi neposredno posle FK ne mogu da služe</a:t>
            </a:r>
            <a:br>
              <a:rPr sz="2000"/>
            </a:b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- kao prognostički faktor za kasniju EPI</a:t>
            </a:r>
            <a:br>
              <a:rPr sz="2000"/>
            </a:b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- niti su bitan kriterijum za profilaksu</a:t>
            </a:r>
            <a:br>
              <a:rPr sz="2000"/>
            </a:b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(Marjanović 1997., Martinović 1997.)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928800" y="100008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ahoma"/>
              </a:rPr>
              <a:t>EEG NALAZ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Picture 5" descr="EPI - general tonicno klonicna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929200" y="1000080"/>
            <a:ext cx="1440000" cy="190512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6836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66"/>
                </a:solidFill>
                <a:latin typeface="Verdana"/>
              </a:rPr>
              <a:t>Diferencijalna dijagnoz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Zapaljenje mozga ili moždanica (meningitis, encefalitis, apsces mozg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Metabolički poremećaji (hipoglikemija, hipokalcemija, hipomagnezemija, deficit piridoksi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66"/>
                </a:solidFill>
                <a:latin typeface="Verdana"/>
              </a:rPr>
              <a:t>Leče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Akutni napad febrilnih konvulzija koji kratko traje ne zahteva lečenje, spontano prolazi, potrebno je obarati temperaturu i lečiti infekciju (90%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Napadi koji traju duže od 30min mogu oštetiti mozak i moraju se prekinut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Pri napadu dužeg trajanja lečenje je isto kao kod drugih konvulzivnih status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pre primene medikamenata treba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- obezbediti prohodne disajne puteve (zalogaj, igračka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771f28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    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- dete u bočni položaj sa glavom niže od tela (aspiracija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- rashlađivanje (kuća ili dispanze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71f28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primena benzodijazepinskih preparata (rektalno, ili i.m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771f28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u slučaju neefikasnosti lekova hitan transport u ustanov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u kojoj se leči epileptični status i sprovodi reanimacij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28400" y="529920"/>
            <a:ext cx="825804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DIAZEPAM rektalno 0,5mg/kg (klizma ili rastvo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održavanje prolaznosti disajnih pute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rashlađiva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ako napad ne prestaj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Fenobarbiton i.v. 20mg/kg (brz. od 1mg/kg/mi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Fenitoin i.v. 15-20mg/kg (brz. od 1mg/kg/mi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Manitol 20% i.v. 0,5g/kg (antiedematozna terapija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U kućnim i dispanzerskim uslovima najracionalni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je rektalna primena leka, tzv.”neprofesionalna iv linija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(Knudsen 1988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DIAZEPAM rektalno 0,5mg/kg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- maksimalna pojedinačna doza 20mg (Graves 1987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- posle klizme terapijski nivo u krvi za </a:t>
            </a:r>
            <a:r>
              <a:rPr b="1" lang="sr-Latn-CS" sz="2600" spc="-1" strike="noStrike">
                <a:solidFill>
                  <a:srgbClr val="000000"/>
                </a:solidFill>
                <a:latin typeface="Verdana"/>
              </a:rPr>
              <a:t>2-5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minu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- a održava se tokom sledećih </a:t>
            </a:r>
            <a:r>
              <a:rPr b="1" lang="sr-Latn-CS" sz="2600" spc="-1" strike="noStrike">
                <a:solidFill>
                  <a:srgbClr val="000000"/>
                </a:solidFill>
                <a:latin typeface="Verdana"/>
              </a:rPr>
              <a:t>3-6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ča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5" descr="diazrett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643120" y="4500720"/>
            <a:ext cx="3200400" cy="1877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82" name="Freeform 7"/>
          <p:cNvSpPr/>
          <p:nvPr/>
        </p:nvSpPr>
        <p:spPr>
          <a:xfrm>
            <a:off x="3929040" y="5143680"/>
            <a:ext cx="1295280" cy="622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778200" y="5929200"/>
            <a:ext cx="843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5 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мин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MIDAZOLAM (FLORMIDAL) i.m. 0,2mg/k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 maksimalna pojedinačna doza 5m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 posle i.m. ili i.v. primen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terapijski nivo za 1,5-5 minu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 antikonvulzivni efekat traje 1-5 čas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6" descr="diazrett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57680" y="4500720"/>
            <a:ext cx="3200400" cy="1877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86" name="Freeform 8"/>
          <p:cNvSpPr/>
          <p:nvPr/>
        </p:nvSpPr>
        <p:spPr>
          <a:xfrm>
            <a:off x="4143240" y="5143680"/>
            <a:ext cx="1219320" cy="685800"/>
          </a:xfrm>
          <a:prstGeom prst="pie">
            <a:avLst/>
          </a:prstGeom>
          <a:noFill/>
          <a:ln w="5724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633840" y="5929200"/>
            <a:ext cx="12398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1,5-5 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мин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rekid napada FK u hospitalnim uslovi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AZEPAM i.v.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0,25mg/kg početna doza (ponoviti za 10 min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0,40mg/kg (ako napad ne prođe za 10-15 min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0,50mg/kg (primeniti druge lekov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Marjanović 1997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14" descr="IV dete ok"/>
          <p:cNvPicPr/>
          <p:nvPr/>
        </p:nvPicPr>
        <p:blipFill>
          <a:blip r:embed="rId1"/>
          <a:stretch/>
        </p:blipFill>
        <p:spPr>
          <a:xfrm>
            <a:off x="2895480" y="4419720"/>
            <a:ext cx="4140360" cy="180324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90" name="Rectangle 4"/>
          <p:cNvSpPr/>
          <p:nvPr/>
        </p:nvSpPr>
        <p:spPr>
          <a:xfrm>
            <a:off x="857160" y="492912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71f28"/>
                </a:solidFill>
                <a:latin typeface="Arial"/>
                <a:ea typeface="Times New Roman"/>
              </a:rPr>
              <a:t>I.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71f28"/>
                </a:solidFill>
                <a:latin typeface="Arial"/>
                <a:ea typeface="Times New Roman"/>
              </a:rPr>
              <a:t>prim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66"/>
                </a:solidFill>
                <a:latin typeface="Verdana"/>
              </a:rPr>
              <a:t>Prevencija FK se sprovodi samo kod atipičnih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ontinuirana profilaksa(Phenobarbiton 3-6 mg/kg uveče, ili Na-valproat 20-30mg/kg u 2 doz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Diskontinuirana profilaksa ( Diazepam 5 mg per recti na 8-12h pri povišenoj temperatutr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Dužina profilakse: 30 meseci (Fishman 1979.), 12-18 meseci ili najduže do 3. godine života (Knudsen 1989.), 18 meseci od zadnjeg napada ili najduže do 6. godina (Martinović 1997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68360" y="1125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99ffcc"/>
                </a:solidFill>
                <a:latin typeface="Verdana"/>
              </a:rPr>
              <a:t>Etiologija neonatalnih konvulz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Hipoksično- ishemična encefalopat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ntrakranijalna hemorag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Elektrolitni poremećaji ( hipo Ca, hipo Mg, hipo Na, hiper 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Hipoglikem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nfekcije CNS: intrauterine (citomegalovirus, rubella, toxoplazma) , perinatalne (bakterijski meningitis, herpes simplex encephalitis, sep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Urodjeni poremećaji metaboliz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Razvojne anomalije moz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Benigne familijarne neonatalne konvulzi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sr-Latn-CS" sz="4400" spc="-1" strike="noStrike">
                <a:solidFill>
                  <a:srgbClr val="323232"/>
                </a:solidFill>
                <a:latin typeface="Verdana"/>
              </a:rPr>
              <a:t>EPILEPSIJ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Epilepsija je hronična bolest koju karakterišu nagle, prolazne i rekurentne paroksizmalne pojave (motorne, senzitivne, psihosenzitivne ili vegetativne), najčešće uz gubitak sve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INCIDENCA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BROJ NOVIH SLUČAJEVA EPI 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J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30-50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 100000 LjUDI GODI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PREVALENC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BROJ UKUPNO OBOLELE DECE JE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 0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4-0.8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sr-Latn-CS" sz="2800" spc="-1" strike="noStrike">
                <a:solidFill>
                  <a:srgbClr val="0070c0"/>
                </a:solidFill>
                <a:latin typeface="Verdana"/>
              </a:rPr>
              <a:t>ETIOLOG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)  Idiopats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b)  Simptomats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70c0"/>
                </a:solidFill>
                <a:latin typeface="Verdana"/>
              </a:rPr>
              <a:t>Idiopatska epilepsija kao moguće uzroke može imat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Nasledje (interreakcija jednog ili više gena i faktora sredi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Diskretne neuropatološke prome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romene u metabolizmu neurona i neurotransmitera (poremećaj ravnoteže izmedju intra i ekstraćelijskih jona i različitih inhibitornih i ekscitatornih aminokiselina i neurotransmiter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Elektrofiziološke promene na nivou neurona i grupe neuro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70c0"/>
                </a:solidFill>
                <a:latin typeface="Verdana"/>
              </a:rPr>
              <a:t>Simptomatska epilepsija je posledic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Cerebralne porodjajne traume (43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Kongenitalnog oštećenja mozga (40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Cirkulatornih moždanih poremećaja (7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ovreda gl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nfekcije mozga i moždan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Tumora moz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Sistemskih bolesti (fakomatoze i dr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Precipitirajući faktori epilepsij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Infekcija i povišena tempera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Umor i nespava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Hiperventilacija i alkaloz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Emoci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Gledanje televizije, rad na računaru i s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Lekovi (izoniazid, penicilin, aminofilin, psihotropni lekovi, toksične doze antikonvulziv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500040" y="7138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70c0"/>
                </a:solidFill>
                <a:latin typeface="Verdana"/>
              </a:rPr>
              <a:t>Klasifikac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arcijalne ili žarišne k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Generalizovane ili opšte k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Neklasifikovane krize (neonatalne konvulzije i dr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Epilepsije vezane za uzr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Parcijalne ili žarišne kr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Fokalna epileps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sihomotorna epileps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arcijalna sa evolucijom u sekundarnu generalizovanu epilepsij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Generalizovane ili opšte kr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Tonično-klonična (grand m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bsansi (petit m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tipični absan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Klonične k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tonične k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Mioklona epileps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Infantilni spaz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Epilepsije vezane za uzrast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Infantilni spaz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Lennox- Gastaut s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tipični petit m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Mioklone k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00040" y="9997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99ffcc"/>
                </a:solidFill>
                <a:latin typeface="Verdana"/>
              </a:rPr>
              <a:t>Kliničke manifestacije neonatalnih konvulz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Diskret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Generalizovane tonič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ultifokalne klonič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Fokalne klonič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ioklonič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53964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70c0"/>
                </a:solidFill>
                <a:latin typeface="Verdana"/>
              </a:rPr>
              <a:t>Klinička sl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99ffcc"/>
                </a:solidFill>
                <a:latin typeface="Verdana"/>
              </a:rPr>
              <a:t>Tonično-klonični napad- grand ma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Može da se javi u bilo koje doba dana ili noći, najčešće pri uspavljivanju ili budjenj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Napadu može da prethodi aura (najčešće vegetativna simptomatologij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Napad počinje gubitkom svesti uz pad, potom sledi generalizovana tonična kontrakcija sa apneom i cijanoz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Ubrzo se javljaju ritmične kontrakcije trupa i ekstremiteta, koje se vremenom usporavaju i zatim naglo prestaj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Napad traje nekoliko sekundi do 30 i više minuta i završava se sn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Postiktalno moze da povraća ili da ima glavobolj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Ponekad je polusvesno a zatim konfuzno nekoliko sat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14200" y="357120"/>
            <a:ext cx="8483760" cy="6215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70c0"/>
                </a:solidFill>
                <a:latin typeface="Verdana"/>
              </a:rPr>
              <a:t>Fokalne krize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redstavljaju lokalizovane i/ili senzitivne fenomene koji se većinom generalizuju uz gubitak sve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dverzivna kriza- skretanje pogleda ili pogleda i glave a ponekad i krivljenje tela na stranu suprotnu od strane fokusa koji je najčešće u frontalnom del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pilepsija rolandičnih šiljaka – prepoznaje se po trzaju usana, uz nemogućnost govora ili dizartriju, sa toničniom poremećajima na jeziku i licu. Ove promene imaju u osnovi dobru prognoz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acksonova epilepsija- lokalizovan početak u vidu kloničnih fenomena koji se progresivno šire(npr. Od šake do ramena). Trajanje varira od 10 sec do više minu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Delimična kontinuirana epilepsija- Kojevwnikova epilepsija- lokalizovani epileptični status (zahvata lice, rame ,šaku...), koji može da traje više dana ili nedel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70c0"/>
                </a:solidFill>
                <a:latin typeface="Verdana"/>
              </a:rPr>
              <a:t>Psihomotorna kriza</a:t>
            </a:r>
            <a:r>
              <a:rPr b="0" lang="sr-Latn-CS" sz="20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fokalni napadi udruženi sa lezijama temporalnog dela. Napad ima četiri del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ura (jaka anksioznost, strepnja, strah, vidne, slušne ili mirisne halucinacij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otorni automatizmi (žvakanje, mljackanje, češanje, besciljni pokreti rukam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ompleksne motorne radnje (kretanje po sobi, svlačenje, ponekad izgovaranje stereotipnih ili besmislenih rečeni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stiktalna konfuz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285840" y="530280"/>
            <a:ext cx="8400960" cy="6113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70c0"/>
                </a:solidFill>
                <a:latin typeface="Verdana"/>
              </a:rPr>
              <a:t>Epilepsije vezane za uzr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66"/>
                </a:solidFill>
                <a:latin typeface="Verdana"/>
              </a:rPr>
              <a:t>Infantilni spazmi (Sy West)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javlja se u uzrastu 3-8 meseci, skoro nikad posle prve god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Češće oboljevaju deča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vi napadi označavaju leziju korteksa i diencefalona, kao i degeneraciju sive i bele m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pad se karakteriše salvama toničnih spazama u fleksiji glave, udova i trupa koji se dnevno mogu ponoviti i 100 puta- selam grče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Često je napad praćen plačom deteta i promenom boje kože (dete može da se zacrveni, pobledi ili pomodr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pazmi mogu da prodju nezapaženo ili da se tumače kao abdominalne koli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EG je tipičan u 66% dece sa izraženom difuznom disritmijom, visokovoltažnim sporim talasima ili multiplim šiljak talas kompleksima- hipsritm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28400" y="530280"/>
            <a:ext cx="8258040" cy="5756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Lennox-Gastaut s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činje u uzrastu 18 meseci do 3 god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ože da se nadoveže na infantilne spazme ili da se javi kod do tada zdrave de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pad se ispoljava naglim i prolaznim padom tonusa uz gubitak svesti i mioklonične trzaje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arakteristični čeoni ožiljci su posledica udarca čela o sto pri naglom grčenju trupa unap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Česte su noćne tonične kri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EG karakteriše prisustvo bilateralnih ili sinhronih bufea sporih šiljak talas kompleksa oko 2 cikla u sekun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56760" y="-360"/>
            <a:ext cx="8412120" cy="6429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Petit m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avlja se u uzrastu 5-9 godina u 64% slučaje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matra se da je uzrok u fokalnim kortikalnim lezijama, odakle se električna aktivnost prenosi bilateralno u široko područje kortek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pad se karakteriše kratkotrajnim gubitkom svesti (1-10 sec) bez konvulzija, sa ukočenim i praznim pogledom i uz prekid dotadašnje aktiv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U 70% bolesnika postoje i male motorne pojave kao što su pokreti usnama i trept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nekad usled gubitka tonusa dete ispusti predmet iz ruke, ali nikada ne pada na zeml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pad počinje iznenada, bez upozorenja ili aure, a može se ponoviti više puta dnev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pad prestaje naglo, a bolesnik često nije svestan šta se deš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arakteristični EEG nalaz se sastoji od bilateralnih i sinhronih šiljak talas kompleksa od 3 cikla u sekun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Mioklonični petit m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avlja se uvek posle 6 godina, najkasnije izmedju 12 i 15 god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rize se javljaju ujutru posle budjenja i karakterišu se kontrakcijama mišića ili grupe mišića koji traju više sekun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EG pokazuje paroksizmalne bilateralne sinhrone bufee više šiljak tala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Dijagnoza epilepsi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Biohemijska i bakteriološka obr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Rendgenski snimak glave (PA i profi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Verdana"/>
              </a:rPr>
              <a:t>EE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CT moz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Lumbalna punk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ngiografija moz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M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zitronska emisiona tomografija (PE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213840" y="529920"/>
            <a:ext cx="8472600" cy="568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Diferencijalna dijagnoz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etabolički poremećaji (hipoglikemija, hipokalcemija, uremija, hipoksij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nfekcije( virusni i bakterijski meningitis, encefalitis, parazitoz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rogresivna moždana degenerativna obolje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vreda gl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Febrilne konvulz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Zacenji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iko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inko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Histerični nap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Lečenje epilepsi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vaka epilepsija mora da bude lečena. Cilj je kompletna kontrola napada ili smanjenje njihove učestalosti, uz očuvanje dobrog fizičkog, psihičkog i socijalnog zdravlj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zbor antiepileptika zavisi od kliničkog i EEG nalaz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0040" y="121392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99ffcc"/>
                </a:solidFill>
                <a:latin typeface="Verdana"/>
              </a:rPr>
              <a:t>Diskretne konvulzi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eško se razlikuju od spontane aktivnosti ili reakcija koje su neepileptične prirode. Mogu se ispoljiti kao: apnea, tonična devijacija očiju, treptanje, sisanje, mljackanje, žvakanje, pokreta u vidu “plivanja”, “veslanja”, “okretanja pedala nogama”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Često se mogu previde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djednako se javljaju kod prematurusa i donešene novorodječad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kularni fenomeni su najčešđi vid ispoljavanj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28760" y="1213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99ffcc"/>
                </a:solidFill>
                <a:latin typeface="Verdana"/>
              </a:rPr>
              <a:t>Tonične konvulzi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- prvenstveno se javljaju kod prevremeno rodjene de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- ispoljavaju se toničnom ekstenzijom ekstremiteta, fleksijom ruku i ekstenzijom nogu, kada podseđaju na decerebracioni ili dekortikacioni položaj starije de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- ponekad su prisutni okularni znaci, apnoične krize ili klonične konvulz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99ffcc"/>
                </a:solidFill>
                <a:latin typeface="Verdana"/>
              </a:rPr>
              <a:t>Multifokalni klonični napad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spoljavaju se migrirajućim kloničnim konvulzijama, različitih delova tela, haotično čime se razlikuju od Jacksonovog nap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arakterističan EEG nalaz je multifokalna aktivnost u vidu oštrih i sporih tala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U više od 75% slučajeva javljaju se kod donešene novorodjenča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00040" y="107172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99ffcc"/>
                </a:solidFill>
                <a:latin typeface="Verdana"/>
              </a:rPr>
              <a:t>Fokalne klonične konvulzi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avljaju se kao jasno ograničene i obično nisu praćene poremećajem sve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 EEG-u se registruje fokalna aktivnost u vidu oštrih talasa, uključujući i šilj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vaj tip napada se češće javlja kod donešene novorodjenča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Često je posledica traumatske povrede (kontuzija mozga) ili cerebralne infarkc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00040" y="1142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99ffcc"/>
                </a:solidFill>
                <a:latin typeface="Verdana"/>
              </a:rPr>
              <a:t>Mioklonični napad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avljaju se u vidu sinhronih grčeva gornjih i donjih ekstremite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djednako često se javljaju kod prematurusa i donešene novorodjenča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od ove dece se kasnije često javljaju infantilni spazm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2T09:36:42Z</dcterms:created>
  <dc:creator>ivo</dc:creator>
  <dc:description/>
  <dc:language>en-US</dc:language>
  <cp:lastModifiedBy>Dr HOME</cp:lastModifiedBy>
  <dcterms:modified xsi:type="dcterms:W3CDTF">2015-12-10T16:34:32Z</dcterms:modified>
  <cp:revision>18</cp:revision>
  <dc:subject/>
  <dc:title>Slide 1</dc:title>
</cp:coreProperties>
</file>