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42.png" ContentType="image/png"/>
  <Override PartName="/ppt/media/image26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29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31.png" ContentType="image/png"/>
  <Override PartName="/ppt/media/image6.jpeg" ContentType="image/jpeg"/>
  <Override PartName="/ppt/media/image60.png" ContentType="image/png"/>
  <Override PartName="/ppt/media/image18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17.png" ContentType="image/png"/>
  <Override PartName="/ppt/media/image16.jpeg" ContentType="image/jpeg"/>
  <Override PartName="/ppt/media/image2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39.png" ContentType="image/png"/>
  <Override PartName="/ppt/media/image27.jpeg" ContentType="image/jpeg"/>
  <Override PartName="/ppt/media/image52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11.png" ContentType="image/png"/>
  <Override PartName="/ppt/media/image48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3.png" ContentType="image/png"/>
  <Override PartName="/ppt/media/image5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040F-8B12-411E-B16D-F6090D94B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5619-5E0E-4FC2-BFED-FF0163E93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7BC-8E02-4199-A040-3B8DB3D5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88F-9F86-4941-8661-97C7BF35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6E7-4D66-4992-AD1F-1BC16B4F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05D-7251-4330-9B22-1FBC2A96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BB5F-94BB-474E-BA15-C3CDB7E1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B8F3-FF50-4F4F-988A-351541D0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A1B1-020F-4DA8-B2B7-BCDD0CEB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2595-2612-46C6-A6ED-91276BB5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81AF-E07D-42C0-9287-25B36438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8799-21C2-4CEF-9F6E-300261B1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F44A-BC81-4B46-BEE3-BD15CBE6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402-DB87-478D-AF33-65C6B512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8CA2-B691-4268-B3DE-9B1A7413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163F-85B6-476D-9A30-BBAEC8B3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0A27-5497-4CB9-A484-E901847F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261F-D425-4725-B3BC-B13297D5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196B-AB4F-4A8C-887C-E2AF546D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23529-18D1-4657-B4F2-3BADB59C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29AE7-D510-4603-903D-121AB88D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1BDBF-77EA-48C0-8631-10DFDA67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8F759-2288-49CA-AC1F-8A81D2AB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772B-BC13-492D-A0DD-C0F2CDDA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879-1C7A-4190-B8C5-136CDF8D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AD024-F098-455A-B48D-2F111154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EEB36-C726-4A5F-A9EE-E3B701B6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F861E-7AD0-4F13-9860-564BDE2F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3FC1-1EDC-474C-AE33-99F7DE23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CF50B-93C4-49DB-B989-D49D7C7F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BDECA-F392-4FEE-A47D-5728C5BB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F3099-33A9-4AD1-AF05-CCB5BF2F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95ACA-DAF2-4C08-82DB-73D13FA4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0F41D-10D1-451B-A220-38C81C42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C4A76-35E7-4EF9-9CA8-BC738D2A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DEA-92CF-41CD-9ADD-E180DCE6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71828-0EAA-4E56-B5E1-BC9C494D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6BA2C-C22B-4375-A6E8-C28F689C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FD1BC-03BF-4E63-B7BC-AEA8C424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F27B4-9408-4419-B35B-120696A0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7B471-7EB3-4625-AB64-195299EB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D9C8A-C480-4E22-9CF3-A936BE7F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9AF0B-DA98-49E2-9525-B837C7B4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81739-331A-4B6C-8E4B-29C2D067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AAA3D-828D-4DF4-BB79-766BBA5D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E309A-C20A-4BB5-8004-0DBA075D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C1EA-003A-4701-9C60-F96CEB65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62010-60BB-4C17-A2BC-A306F628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1C448-84F2-4CC0-90E9-31CB1A10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D8F04-8C02-4800-B879-E2655EFB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AF03A-03EF-497D-8870-C57D52A0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854D6-6AD9-488F-9C85-FFEB600E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A22F2-B732-42D1-A3AE-242BA7DB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53084-E17B-45D3-B38F-A484904A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3D55C-A392-4D69-98AB-900EA240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5DAEC-5173-45B1-89D1-5292C20A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6413C-6EFE-4113-90D0-C746E121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5C6-D36E-45ED-A8D7-30BAEA59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69E9E-6E05-4373-8835-C8EE3EEB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5A978-53D0-4BA2-8652-05DB4E24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F1699-3F3B-47BB-BF2C-25CA3B18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15238-8C1E-4A1E-A730-39EB24D3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08604-3770-4792-ABA1-99CD0C9A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185CF-3774-48F3-B2B1-EC678DD7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FFE0B-E114-4FE5-BD29-8617F501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93D07-3BB1-4463-BF09-5A4AA057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555ED-1D82-4F2C-BFD5-96444C1A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FB16F-D95F-4673-8F94-4C53D06B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CBD6-6B5B-4BEC-9CBF-C8D948A4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28C3F-45B1-41EE-9B27-2E2CCA9D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20B63-FF08-40FA-9605-A42B9A71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1B1FA-B1B9-48F7-9431-AF57AC41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2498F-9443-48CB-AFB8-CDB206FA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A9988-E222-4A11-942F-FEFDA66E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C2681-DC81-41D1-927C-2924DCDD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E8FE0-5DD9-4EBF-9C55-F41565DA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2E803-C5A4-4BBA-961B-5794EE78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5C450-9145-44F2-BA31-AB7AF6FD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829C2-82A6-4EB3-883F-F97BF288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E4E-EC0B-46F3-A01C-835FF888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1D61C-194A-49E7-A52E-D39211E2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2B6EB-9E47-4350-934A-5A13A7C5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13C07-1320-465D-9B90-079EA5A4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1420F-FBD4-4211-93FD-6C51C082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91F60-5D73-4CFC-926E-36B1D5FD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AC3E8-FA15-414D-BA80-7E29444D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5FD66-50A6-4C11-96F9-9325B374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C3518-FFCC-4ABF-A27F-2F89E73F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8AD93-6DFA-4EB3-8D0A-48BC940E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3C944-FB47-4FF8-9C79-1B8371E7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4B5-C066-49C0-9378-46673384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19607-49F5-4F01-AFD2-44CDDC39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69909-9D24-4524-88C5-82C706F4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0A6EA-4D2B-442C-9309-2B9AD38F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F37F3-D512-401B-9297-1B7E03E3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CF220-A9AD-4959-9A3F-D8A15B4E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15FC6-3FE3-4EFB-8A17-0E29B558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CDA47-2A18-4699-9913-5283D6F2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7140-110E-439A-8475-EADC8B8D37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DE0E-D3F8-4C4B-ACCE-0D00F79EBB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1825-79E1-45EA-AD2F-3F0C34CD42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28B6-7D40-4F2A-9001-D00237B3FE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2376-3361-4905-9B7E-254F7965C4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4F58-9EEA-4C1C-BCFF-650B2F6DBA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CAB0-5A6F-4A36-B403-4FAEF2E264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0709-E8B0-4F3E-BDEE-C47C2E80E7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31960"/>
            <a:ext cx="8120160" cy="1859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Zoran Igrutinović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Medicinski fakulte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Klinika za pedijatrij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врат је укочен а фонтанела напет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(због едема може настати транстенторијал.</a:t>
            </a:r>
            <a:r>
              <a:rPr b="0" lang="en-U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хернијација</a:t>
            </a:r>
            <a:r>
              <a:rPr b="0" lang="en-US" sz="2800" spc="-1" strike="noStrike">
                <a:solidFill>
                  <a:srgbClr val="0070c0"/>
                </a:solidFill>
                <a:latin typeface="Lucida Sans Unicode"/>
              </a:rPr>
              <a:t>)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брза и адекватна антибиотска и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супортивна терапија су често неефикасне</a:t>
            </a:r>
            <a:r>
              <a:rPr b="0" lang="sr-Latn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Мање од 1% деце са бактеријским менинг. нема класичне симптоме, већ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нејасну фебрилност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поремећај понашања и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петехијално крвављење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Петехије се најчешће јављају код менингококне сепсе, али се јављају и код инфекције пнеумококом и код вирусних инфекциј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91960" y="0"/>
            <a:ext cx="8401320" cy="1427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septicaemia baby with purple toes 1"/>
          <p:cNvPicPr/>
          <p:nvPr/>
        </p:nvPicPr>
        <p:blipFill>
          <a:blip r:embed="rId2"/>
          <a:stretch/>
        </p:blipFill>
        <p:spPr>
          <a:xfrm>
            <a:off x="6691320" y="2209680"/>
            <a:ext cx="2452680" cy="2086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Значајни параметри који указују на БМ су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Lucida Sans Unicode"/>
              </a:rPr>
              <a:t>тешко опште стање детета (знаци шока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Lucida Sans Unicode"/>
              </a:rPr>
              <a:t>врискав, слаб плач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Lucida Sans Unicode"/>
              </a:rPr>
              <a:t>бледо-сива боја коже, дехидрација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код фулминантног менингитиса број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леукоцита је нормалан или снижен, што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указује и на вирусни менингитис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CS" sz="2800" spc="-1" strike="noStrike" u="sng">
                <a:solidFill>
                  <a:srgbClr val="cc0000"/>
                </a:solidFill>
                <a:uFillTx/>
                <a:latin typeface="Lucida Sans Unicode"/>
              </a:rPr>
              <a:t>тешко стање детета је кључна разлика ове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Lucida Sans Unicode"/>
              </a:rPr>
              <a:t> </a:t>
            </a:r>
            <a:r>
              <a:rPr b="1" lang="sr-CS" sz="2800" spc="-1" strike="noStrike" u="sng">
                <a:solidFill>
                  <a:srgbClr val="cc0000"/>
                </a:solidFill>
                <a:uFillTx/>
                <a:latin typeface="Lucida Sans Unicode"/>
              </a:rPr>
              <a:t>две болест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почетак болест је обично неспецифичан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симптоми инфекције горњих респираторних путева,  уз губитак апетита, муку и повраћање</a:t>
            </a:r>
            <a:r>
              <a:rPr b="0" lang="sr-C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присуство екстра-менингеалне инфекциј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(фарингитис, отитис) често зава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када деца примају орално антибиотике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(декапитирани менингитис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291960" y="55440"/>
            <a:ext cx="8401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Болест клинички пролази кроз три стадијума којима претходи продромални стадијум различите дужине, најчешће 2-3 недеље, а испољава се знацима опште инфекције и променом расположења било у смислу апатије или раздражљивост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Дијагноза се п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оставља на основу анамнестичких података о прележаној или активној туберкулози на неком органу, клиничке слике и </a:t>
            </a:r>
            <a:r>
              <a:rPr b="1" lang="en-US" sz="2800" spc="-1" strike="noStrike">
                <a:solidFill>
                  <a:srgbClr val="cc0000"/>
                </a:solidFill>
                <a:latin typeface="Lucida Sans Unicode"/>
              </a:rPr>
              <a:t>прегледа ликвора</a:t>
            </a:r>
            <a:r>
              <a:rPr b="1" lang="en-US" sz="2800" spc="-1" strike="noStrike">
                <a:solidFill>
                  <a:srgbClr val="ffff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К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линички стадијум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и ТБЦ менингитиса трају по 7 дана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i="1" lang="en-US" sz="2800" spc="-1" strike="noStrike">
                <a:solidFill>
                  <a:srgbClr val="0070c0"/>
                </a:solidFill>
                <a:latin typeface="Lucida Sans Unicode"/>
              </a:rPr>
              <a:t>СТАДИЈУМ I (</a:t>
            </a:r>
            <a:r>
              <a:rPr b="1" i="1" lang="sr-CS" sz="2800" spc="-1" strike="noStrike">
                <a:solidFill>
                  <a:srgbClr val="0070c0"/>
                </a:solidFill>
                <a:latin typeface="Lucida Sans Unicode"/>
              </a:rPr>
              <a:t>ОПШТИХ ТЕГОБА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лако повишена температур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главобољ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а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повраћање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опстипациј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а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брадикардиј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бледил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страх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врат је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ограничено покретан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СТАДИЈУМ II </a:t>
            </a:r>
            <a:r>
              <a:rPr b="1" i="1" lang="sr-CS" sz="2700" spc="-1" strike="noStrike">
                <a:solidFill>
                  <a:srgbClr val="000000"/>
                </a:solidFill>
                <a:latin typeface="Lucida Sans Unicode"/>
              </a:rPr>
              <a:t>(МЕНИНГЕАЛНИ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повишена температура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главобољ</a:t>
            </a: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повраћањ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позитивни менингеални знаци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базиларни знаци</a:t>
            </a: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 крајем овог стадијума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анизокорија (неједнаке зенице)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страбизам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птоза очних капака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диплопија (дупле слике)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ојава безвољног уринирањ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31840" y="-3636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СТАДИЈУМ III </a:t>
            </a:r>
            <a:r>
              <a:rPr b="1" i="1" lang="sr-CS" sz="2700" spc="-1" strike="noStrike">
                <a:solidFill>
                  <a:srgbClr val="000000"/>
                </a:solidFill>
                <a:latin typeface="Lucida Sans Unicode"/>
              </a:rPr>
              <a:t>(паралитичко - енцефалитични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базиларни знаци</a:t>
            </a: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 још израженији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поремећаји свести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раздражљивост</a:t>
            </a: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или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немир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летаргија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апатија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сомноленција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сопор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ком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231840" y="-109440"/>
            <a:ext cx="8461440" cy="13096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4"/>
          <p:cNvSpPr/>
          <p:nvPr/>
        </p:nvSpPr>
        <p:spPr>
          <a:xfrm>
            <a:off x="1893960" y="5486400"/>
            <a:ext cx="57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 u="sng">
                <a:solidFill>
                  <a:srgbClr val="cc0000"/>
                </a:solidFill>
                <a:uFillTx/>
                <a:latin typeface="Arial"/>
              </a:rPr>
              <a:t>НЕПРЕПОЗНАТ И НЕЛЕЧЕН </a:t>
            </a:r>
            <a:r>
              <a:rPr b="1" i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:</a:t>
            </a:r>
            <a:r>
              <a:rPr b="1" i="1" lang="sr-CS" sz="1800" spc="-1" strike="noStrike" u="sng">
                <a:solidFill>
                  <a:srgbClr val="cc0000"/>
                </a:solidFill>
                <a:uFillTx/>
                <a:latin typeface="Arial"/>
              </a:rPr>
              <a:t>СМРТ ЗА 3 НЕДЕ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0492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уколико је дете млађе симптоми с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неспецифичнији (температура, повраћање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код одојчади је менингеални синдр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често је одсутан, а код 50% је фонтанел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напет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CS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менингитис се увек разматра када с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прегледом не може објаснити тешко стањ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детета или када мајка каже да дете ниј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добро (апатично, плачљиво, без апетита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291960" y="-122400"/>
            <a:ext cx="84013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Анамнез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Неуропедијатријски прегле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Лабораторијске анализ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ЛУМБАЛНА ПУНКЦИЈ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Неурорадиолошко испитивањ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Неурофизиолошко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испитивањ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268200" y="249120"/>
            <a:ext cx="8425080" cy="750960"/>
          </a:xfrm>
          <a:prstGeom prst="rect">
            <a:avLst/>
          </a:prstGeom>
          <a:ln w="0">
            <a:noFill/>
          </a:ln>
        </p:spPr>
      </p:pic>
      <p:sp>
        <p:nvSpPr>
          <p:cNvPr id="425" name="Oval 4"/>
          <p:cNvSpPr/>
          <p:nvPr/>
        </p:nvSpPr>
        <p:spPr>
          <a:xfrm>
            <a:off x="228600" y="2438280"/>
            <a:ext cx="655308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Lucida Sans Unicode"/>
              </a:rPr>
              <a:t>Менингитисни синдром</a:t>
            </a:r>
            <a:r>
              <a:rPr b="1" lang="sr-C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у деце је скуп клиничких знакова и симптома, које сваки педијатар треба добро да познаје, како би одмах хоспитализовао болесно дете и правовремено одрадио дијагностику (лумбалну пункцију) и применио адекватну терапију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ff00"/>
                </a:solidFill>
                <a:latin typeface="Lucida Sans Unicode"/>
              </a:rPr>
              <a:t>Општи педијатријски преглед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стање свести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фебрилност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промене по кож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положај при преглед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напетост фонтанел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98440" y="176040"/>
            <a:ext cx="8394840" cy="6224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napeta fontanela"/>
          <p:cNvPicPr/>
          <p:nvPr/>
        </p:nvPicPr>
        <p:blipFill>
          <a:blip r:embed="rId2"/>
          <a:stretch/>
        </p:blipFill>
        <p:spPr>
          <a:xfrm>
            <a:off x="5105520" y="4495680"/>
            <a:ext cx="3149640" cy="1576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29" name="Picture 5" descr="0"/>
          <p:cNvPicPr/>
          <p:nvPr/>
        </p:nvPicPr>
        <p:blipFill>
          <a:blip r:embed="rId3"/>
          <a:stretch/>
        </p:blipFill>
        <p:spPr>
          <a:xfrm>
            <a:off x="1447920" y="4419720"/>
            <a:ext cx="2133360" cy="1600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ff00"/>
                </a:solidFill>
                <a:latin typeface="Lucida Sans Unicode"/>
              </a:rPr>
              <a:t>Неуролошки прегле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менингеални знаци: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укочен вра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Кернигов знак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знак Бружинског</a:t>
            </a:r>
            <a:r>
              <a:rPr b="0" lang="sr-Latn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горњи и доњ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Вујићев знак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Амосов знак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268200" y="212760"/>
            <a:ext cx="8425080" cy="708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Brudzinski"/>
          <p:cNvPicPr/>
          <p:nvPr/>
        </p:nvPicPr>
        <p:blipFill>
          <a:blip r:embed="rId2"/>
          <a:stretch/>
        </p:blipFill>
        <p:spPr>
          <a:xfrm>
            <a:off x="4038480" y="4419720"/>
            <a:ext cx="4089600" cy="2057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Колизија анамнезе и прегледа 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претпостављеном дијагнозо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Фебрилно дете има необјашњив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поремећај понашања и свес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Фебрилне конвулзије код одојчета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268200" y="-6480"/>
            <a:ext cx="854100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4"/>
          <p:cNvSpPr/>
          <p:nvPr/>
        </p:nvSpPr>
        <p:spPr>
          <a:xfrm>
            <a:off x="304920" y="5715000"/>
            <a:ext cx="8686800" cy="825480"/>
          </a:xfrm>
          <a:prstGeom prst="rect">
            <a:avLst/>
          </a:prstGeom>
          <a:solidFill>
            <a:srgbClr val="0033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Cooper Bold YU"/>
              </a:rPr>
              <a:t>КОД СВАКЕ СУМЊЕ НА ПУРУЛЕНТНИ МЕНИНГИТИС УРАДИТИ ЛУМБАЛНУ ПУНК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Контраиндикације за лумб. пункцију су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повишен интракр. притисак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(реална опасност хернијације је 4,3-6%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брзи развој коме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фокални неуролошки знаци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застојна папила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после конвулзија ЛП се одлаже 30 мин</a:t>
            </a:r>
            <a:r>
              <a:rPr b="1" lang="sr-CS" sz="2300" spc="-1" strike="noStrike">
                <a:solidFill>
                  <a:srgbClr val="ffff00"/>
                </a:solidFill>
                <a:latin typeface="Lucida Sans Unicode"/>
              </a:rPr>
              <a:t>.</a:t>
            </a:r>
            <a:r>
              <a:rPr b="1" lang="en-US" sz="2300" spc="-1" strike="noStrike">
                <a:solidFill>
                  <a:srgbClr val="ffff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324000" y="219240"/>
            <a:ext cx="836928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700" spc="-1" strike="noStrike">
                <a:solidFill>
                  <a:srgbClr val="00ff00"/>
                </a:solidFill>
                <a:latin typeface="Lucida Sans Unicode"/>
              </a:rPr>
              <a:t>Ликвор </a:t>
            </a:r>
            <a:r>
              <a:rPr b="1" i="1" lang="sr-CS" sz="2700" spc="-1" strike="noStrike">
                <a:solidFill>
                  <a:srgbClr val="002060"/>
                </a:solidFill>
                <a:latin typeface="Lucida Sans Unicode"/>
              </a:rPr>
              <a:t>се преглед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7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i="1" lang="sr-CS" sz="2700" spc="-1" strike="noStrike">
                <a:solidFill>
                  <a:srgbClr val="002060"/>
                </a:solidFill>
                <a:latin typeface="Lucida Sans Unicode"/>
              </a:rPr>
              <a:t>директним препаратом (микроскоп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7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i="1" lang="sr-CS" sz="2700" spc="-1" strike="noStrike">
                <a:solidFill>
                  <a:srgbClr val="002060"/>
                </a:solidFill>
                <a:latin typeface="Lucida Sans Unicode"/>
              </a:rPr>
              <a:t>биохемијск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7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i="1" lang="sr-CS" sz="2700" spc="-1" strike="noStrike">
                <a:solidFill>
                  <a:srgbClr val="002060"/>
                </a:solidFill>
                <a:latin typeface="Lucida Sans Unicode"/>
              </a:rPr>
              <a:t>микробиолошк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i="1" lang="sr-CS" sz="2700" spc="-1" strike="noStrike">
                <a:solidFill>
                  <a:srgbClr val="002060"/>
                </a:solidFill>
                <a:latin typeface="Lucida Sans Unicode"/>
              </a:rPr>
              <a:t>серолошк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Од великог је значаја су и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хемокултур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седиментација еритроцит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леукоцитоз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вредности ЦРП-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Неурорадиолошка испитивања су од малог значаја у дијагнози менингитиса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ЦТ, МР или УЗ  главе индиковани су код: погоршања интракранијалне хипертензије или фокалних дефицита (компликације)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22824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Септикемиј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Фебрилне конвулзиј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Серозни менингитис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ТБЦ / гљивични менингитис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Мождани апсцес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Траума глав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Субдурални хемат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Метаболички поремећај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Интоксикациј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САХ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Неопластични менингитис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291960" y="-60480"/>
            <a:ext cx="840132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291960" y="-66600"/>
            <a:ext cx="8401320" cy="633240"/>
          </a:xfrm>
          <a:prstGeom prst="rect">
            <a:avLst/>
          </a:prstGeom>
          <a:ln w="0">
            <a:noFill/>
          </a:ln>
        </p:spPr>
      </p:pic>
      <p:grpSp>
        <p:nvGrpSpPr>
          <p:cNvPr id="444" name="Group 4"/>
          <p:cNvGrpSpPr/>
          <p:nvPr/>
        </p:nvGrpSpPr>
        <p:grpSpPr>
          <a:xfrm>
            <a:off x="304920" y="838080"/>
            <a:ext cx="2819160" cy="5761080"/>
            <a:chOff x="304920" y="838080"/>
            <a:chExt cx="2819160" cy="5761080"/>
          </a:xfrm>
        </p:grpSpPr>
        <p:sp>
          <p:nvSpPr>
            <p:cNvPr id="445" name="Rectangle 5"/>
            <p:cNvSpPr/>
            <p:nvPr/>
          </p:nvSpPr>
          <p:spPr>
            <a:xfrm>
              <a:off x="304920" y="884160"/>
              <a:ext cx="2819160" cy="571500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6" name="Picture 6" descr="40 GN spoljna strana mozga"/>
            <p:cNvPicPr/>
            <p:nvPr/>
          </p:nvPicPr>
          <p:blipFill>
            <a:blip r:embed="rId2"/>
            <a:stretch/>
          </p:blipFill>
          <p:spPr>
            <a:xfrm>
              <a:off x="380880" y="1493640"/>
              <a:ext cx="2667240" cy="174960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447" name="Text Box 7"/>
            <p:cNvSpPr/>
            <p:nvPr/>
          </p:nvSpPr>
          <p:spPr>
            <a:xfrm>
              <a:off x="1040760" y="838080"/>
              <a:ext cx="159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CS" sz="2400" spc="-1" strike="noStrike">
                  <a:solidFill>
                    <a:srgbClr val="000000"/>
                  </a:solidFill>
                  <a:latin typeface="Cooper Bold YU"/>
                  <a:ea typeface="Times New Roman"/>
                </a:rPr>
                <a:t>ВИРУС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380160" y="3552840"/>
              <a:ext cx="2611440" cy="28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oper Bold YU"/>
                  <a:ea typeface="Times New Roman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иквор бистар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теинорах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.5 do 1.0g/l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икорахија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рм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50-66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ћелије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имфоци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 1000 u mm</a:t>
              </a:r>
              <a:r>
                <a:rPr b="0" lang="sr-Latn-C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832680" y="3247920"/>
              <a:ext cx="142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СЕРОЗ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0"/>
          <p:cNvGrpSpPr/>
          <p:nvPr/>
        </p:nvGrpSpPr>
        <p:grpSpPr>
          <a:xfrm>
            <a:off x="3200400" y="838080"/>
            <a:ext cx="2819520" cy="5761080"/>
            <a:chOff x="3200400" y="838080"/>
            <a:chExt cx="2819520" cy="5761080"/>
          </a:xfrm>
        </p:grpSpPr>
        <p:sp>
          <p:nvSpPr>
            <p:cNvPr id="451" name="Rectangle 11"/>
            <p:cNvSpPr/>
            <p:nvPr/>
          </p:nvSpPr>
          <p:spPr>
            <a:xfrm>
              <a:off x="3200400" y="884160"/>
              <a:ext cx="2819520" cy="571500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Group 12"/>
            <p:cNvGrpSpPr/>
            <p:nvPr/>
          </p:nvGrpSpPr>
          <p:grpSpPr>
            <a:xfrm>
              <a:off x="3350160" y="838080"/>
              <a:ext cx="2593440" cy="5515200"/>
              <a:chOff x="3350160" y="838080"/>
              <a:chExt cx="2593440" cy="5515200"/>
            </a:xfrm>
          </p:grpSpPr>
          <p:pic>
            <p:nvPicPr>
              <p:cNvPr id="453" name="Picture 13" descr="Purulentni mening"/>
              <p:cNvPicPr/>
              <p:nvPr/>
            </p:nvPicPr>
            <p:blipFill>
              <a:blip r:embed="rId3"/>
              <a:stretch/>
            </p:blipFill>
            <p:spPr>
              <a:xfrm>
                <a:off x="3353040" y="1493640"/>
                <a:ext cx="2590560" cy="178776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</p:spPr>
          </p:pic>
          <p:sp>
            <p:nvSpPr>
              <p:cNvPr id="454" name="Text Box 14"/>
              <p:cNvSpPr/>
              <p:nvPr/>
            </p:nvSpPr>
            <p:spPr>
              <a:xfrm>
                <a:off x="3498840" y="838080"/>
                <a:ext cx="24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CS" sz="2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БАКТЕРИЈСК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15"/>
              <p:cNvSpPr/>
              <p:nvPr/>
            </p:nvSpPr>
            <p:spPr>
              <a:xfrm>
                <a:off x="3350160" y="3576600"/>
                <a:ext cx="2549160" cy="27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ликвор мутан</a:t>
                </a:r>
                <a:r>
                  <a:rPr b="1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</a:rPr>
                  <a:t>протеинорахиј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5 - 5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g/l)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</a:rPr>
                  <a:t>гликорахија</a:t>
                </a:r>
                <a:r>
                  <a:rPr b="0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0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нижена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40%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ћелиј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&gt;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лимор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do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00 u mm</a:t>
                </a:r>
                <a:r>
                  <a:rPr b="0" lang="sr-Latn-CS" sz="20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3719160" y="3247920"/>
                <a:ext cx="190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УРУЛЕНТН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17"/>
          <p:cNvGrpSpPr/>
          <p:nvPr/>
        </p:nvGrpSpPr>
        <p:grpSpPr>
          <a:xfrm>
            <a:off x="6195960" y="838080"/>
            <a:ext cx="2961360" cy="5761080"/>
            <a:chOff x="6195960" y="838080"/>
            <a:chExt cx="2961360" cy="5761080"/>
          </a:xfrm>
        </p:grpSpPr>
        <p:sp>
          <p:nvSpPr>
            <p:cNvPr id="458" name="Rectangle 18"/>
            <p:cNvSpPr/>
            <p:nvPr/>
          </p:nvSpPr>
          <p:spPr>
            <a:xfrm>
              <a:off x="6195960" y="884160"/>
              <a:ext cx="2819520" cy="571500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Group 19"/>
            <p:cNvGrpSpPr/>
            <p:nvPr/>
          </p:nvGrpSpPr>
          <p:grpSpPr>
            <a:xfrm>
              <a:off x="6347520" y="838080"/>
              <a:ext cx="2809800" cy="5607000"/>
              <a:chOff x="6347520" y="838080"/>
              <a:chExt cx="2809800" cy="5607000"/>
            </a:xfrm>
          </p:grpSpPr>
          <p:pic>
            <p:nvPicPr>
              <p:cNvPr id="460" name="Picture 20" descr="TBC menin bazil"/>
              <p:cNvPicPr/>
              <p:nvPr/>
            </p:nvPicPr>
            <p:blipFill>
              <a:blip r:embed="rId4"/>
              <a:stretch/>
            </p:blipFill>
            <p:spPr>
              <a:xfrm>
                <a:off x="6348240" y="1493640"/>
                <a:ext cx="2590920" cy="179244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</p:spPr>
          </p:pic>
          <p:sp>
            <p:nvSpPr>
              <p:cNvPr id="461" name="Text Box 21"/>
              <p:cNvSpPr/>
              <p:nvPr/>
            </p:nvSpPr>
            <p:spPr>
              <a:xfrm>
                <a:off x="6487920" y="838080"/>
                <a:ext cx="266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CS" sz="2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ТУБЕРКУЛОЗН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22"/>
              <p:cNvSpPr/>
              <p:nvPr/>
            </p:nvSpPr>
            <p:spPr>
              <a:xfrm>
                <a:off x="6347520" y="3576600"/>
                <a:ext cx="2611440" cy="28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</a:rPr>
                  <a:t>ликвор биста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</a:rPr>
                  <a:t>протеинорахиј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0.5 do 1.0g/l)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гликорахија</a:t>
                </a:r>
                <a:r>
                  <a:rPr b="1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0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нижена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40%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ћелиј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лимфоцит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o 1000 u mm</a:t>
                </a:r>
                <a:r>
                  <a:rPr b="0" lang="sr-Latn-CS" sz="20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23"/>
              <p:cNvSpPr/>
              <p:nvPr/>
            </p:nvSpPr>
            <p:spPr>
              <a:xfrm>
                <a:off x="6805080" y="3247920"/>
                <a:ext cx="178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БАЗИЛАРН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ЛИКВОР ЈЕ ЗАМУЋЕ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протеинорахија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&gt; 0.5g/l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(до 5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g/l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гликорахија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&lt; 2.4mmola/l (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ликвор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: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серум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&lt; 0.31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леукоцити (полиморфонук.)</a:t>
            </a:r>
            <a:r>
              <a:rPr b="0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&gt; 1000  &lt; 10000/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бојење по Граму позитивно 70 – 90%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ЦРП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&gt;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100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µ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g/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латекс аглутинациј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Rectangle 2" descr=""/>
          <p:cNvPicPr/>
          <p:nvPr/>
        </p:nvPicPr>
        <p:blipFill>
          <a:blip r:embed="rId1"/>
          <a:stretch/>
        </p:blipFill>
        <p:spPr>
          <a:xfrm>
            <a:off x="268200" y="-66600"/>
            <a:ext cx="84250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12aa"/>
          <p:cNvPicPr/>
          <p:nvPr/>
        </p:nvPicPr>
        <p:blipFill>
          <a:blip r:embed="rId1"/>
          <a:stretch/>
        </p:blipFill>
        <p:spPr>
          <a:xfrm>
            <a:off x="0" y="-16344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3"/>
          <p:cNvSpPr/>
          <p:nvPr/>
        </p:nvSpPr>
        <p:spPr>
          <a:xfrm>
            <a:off x="685800" y="16765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Cooper Bold YU"/>
              </a:rPr>
              <a:t>УЧЕСТАЛОСТ</a:t>
            </a:r>
            <a:r>
              <a:rPr b="1" lang="sr-Latn-CS" sz="3200" spc="-1" strike="noStrike">
                <a:solidFill>
                  <a:srgbClr val="ffff00"/>
                </a:solidFill>
                <a:latin typeface="Cooper Bold YU"/>
              </a:rPr>
              <a:t> :  0,1-10 / 1.000 </a:t>
            </a:r>
            <a:r>
              <a:rPr b="1" lang="sr-CS" sz="3200" spc="-1" strike="noStrike">
                <a:solidFill>
                  <a:srgbClr val="ffff00"/>
                </a:solidFill>
                <a:latin typeface="Cooper Bold YU"/>
              </a:rPr>
              <a:t>ЉУДИ</a:t>
            </a:r>
            <a:r>
              <a:rPr b="1" lang="sr-Latn-CS" sz="3200" spc="-1" strike="noStrike">
                <a:solidFill>
                  <a:srgbClr val="ffff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Cooper Bold YU"/>
              </a:rPr>
              <a:t>70% </a:t>
            </a:r>
            <a:r>
              <a:rPr b="1" lang="sr-CS" sz="3200" spc="-1" strike="noStrike">
                <a:solidFill>
                  <a:srgbClr val="ffff00"/>
                </a:solidFill>
                <a:latin typeface="Cooper Bold YU"/>
              </a:rPr>
              <a:t>СУ ДЕЦА ДО 5. ГОДИНЕ</a:t>
            </a:r>
            <a:r>
              <a:rPr b="0" lang="sr-Latn-CS" sz="3200" spc="-1" strike="noStrike">
                <a:solidFill>
                  <a:srgbClr val="ffff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4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762120" y="303840"/>
            <a:ext cx="7772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1" lang="sr-CS" sz="3200" spc="-1" strike="noStrike">
                <a:solidFill>
                  <a:srgbClr val="ffff00"/>
                </a:solidFill>
                <a:latin typeface="Cooper Bold YU"/>
              </a:rPr>
              <a:t>ПУРУЛЕНТНИ МЕНИНГ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ЛИКВОР ЈЕ БИСТ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протеинорахија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o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д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0.5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до 1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g/l</a:t>
            </a:r>
            <a:r>
              <a:rPr b="0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гликорахија је нормал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100</a:t>
            </a:r>
            <a:r>
              <a:rPr b="0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-</a:t>
            </a:r>
            <a:r>
              <a:rPr b="0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1000 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ћелија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/ml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(предом. лимфоцити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70c0"/>
                </a:solidFill>
                <a:latin typeface="Lucida Sans Unicode"/>
              </a:rPr>
              <a:t>у почетку болести у ¼ се могу наћи и полиморфонуклеари (око 10%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   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контролна пункција за 24-48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h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покаже увек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291960" y="85680"/>
            <a:ext cx="840132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ЛИКВОР ЈЕ БИСТАР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протеинорахија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o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д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 0.5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до 1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g/l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гликорахија је снижен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(мање од 40% гликемије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100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-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1000 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ћелија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/ml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(предом. лимфоцити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бојење препарата по Цил-Нилзен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засејавање на подлогу (Левенштајн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ЕЛИС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291960" y="171360"/>
            <a:ext cx="84013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0880" y="11426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Cooper Bold YU"/>
              </a:rPr>
              <a:t>Антибиотици</a:t>
            </a:r>
            <a:r>
              <a:rPr b="1" lang="sr-Latn-CS" sz="24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Cooper Bold YU"/>
              </a:rPr>
              <a:t>– </a:t>
            </a:r>
            <a:r>
              <a:rPr b="1" lang="sr-CS" sz="2000" spc="-1" strike="noStrike">
                <a:solidFill>
                  <a:srgbClr val="ff0000"/>
                </a:solidFill>
                <a:latin typeface="Cooper Bold YU"/>
              </a:rPr>
              <a:t>брзо и у адекватној доз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Cooper Bold YU"/>
              </a:rPr>
              <a:t>Заштита можданог метаболизм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Cooper Bold YU"/>
              </a:rPr>
              <a:t>Контрола интракран. притиска</a:t>
            </a:r>
            <a:br>
              <a:rPr sz="2400"/>
            </a:br>
            <a:r>
              <a:rPr b="1" lang="sr-Latn-CS" sz="2400" spc="-1" strike="noStrike">
                <a:solidFill>
                  <a:srgbClr val="00ff00"/>
                </a:solidFill>
                <a:latin typeface="Cooper Bold Y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Cooper Bold YU"/>
              </a:rPr>
              <a:t>Контрола конвулзиј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Cooper Bold YU"/>
              </a:rPr>
              <a:t>Одржавање хомеостазе</a:t>
            </a:r>
            <a:r>
              <a:rPr b="1" lang="sr-Latn-CS" sz="2800" spc="-1" strike="noStrike">
                <a:solidFill>
                  <a:srgbClr val="00ff00"/>
                </a:solidFill>
                <a:latin typeface="Cooper Bold YU"/>
              </a:rPr>
              <a:t> / </a:t>
            </a:r>
            <a:r>
              <a:rPr b="1" lang="sr-CS" sz="2800" spc="-1" strike="noStrike">
                <a:solidFill>
                  <a:srgbClr val="00ff00"/>
                </a:solidFill>
                <a:latin typeface="Cooper Bold YU"/>
              </a:rPr>
              <a:t>нормоволемије</a:t>
            </a:r>
            <a:r>
              <a:rPr b="1" lang="sr-Latn-CS" sz="2400" spc="-1" strike="noStrike">
                <a:solidFill>
                  <a:srgbClr val="ffff00"/>
                </a:solidFill>
                <a:latin typeface="Cooper Bold YU"/>
              </a:rPr>
              <a:t>      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Cooper Bold YU"/>
              </a:rPr>
              <a:t>    </a:t>
            </a:r>
            <a:r>
              <a:rPr b="1" lang="sr-CS" sz="2000" spc="-1" strike="noStrike">
                <a:solidFill>
                  <a:srgbClr val="ff0000"/>
                </a:solidFill>
                <a:latin typeface="Cooper Bold YU"/>
              </a:rPr>
              <a:t>(хиперволемија</a:t>
            </a:r>
            <a:r>
              <a:rPr b="1" lang="sr-Latn-CS" sz="2000" spc="-1" strike="noStrike">
                <a:solidFill>
                  <a:srgbClr val="ff0000"/>
                </a:solidFill>
                <a:latin typeface="Cooper Bold YU"/>
              </a:rPr>
              <a:t> – SIADH</a:t>
            </a:r>
            <a:r>
              <a:rPr b="1" lang="sr-CS" sz="2000" spc="-1" strike="noStrike">
                <a:solidFill>
                  <a:srgbClr val="ff0000"/>
                </a:solidFill>
                <a:latin typeface="Cooper Bold YU"/>
              </a:rPr>
              <a:t>  - хиповолемија - дехидрација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Cooper Bold YU"/>
              </a:rPr>
              <a:t>Контрола хиперпирексиј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291960" y="-60480"/>
            <a:ext cx="840132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324000" y="165240"/>
            <a:ext cx="836928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3" name=""/>
          <p:cNvGraphicFramePr/>
          <p:nvPr/>
        </p:nvGraphicFramePr>
        <p:xfrm>
          <a:off x="457200" y="1600200"/>
          <a:ext cx="8458200" cy="4427640"/>
        </p:xfrm>
        <a:graphic>
          <a:graphicData uri="http://schemas.openxmlformats.org/drawingml/2006/table">
            <a:tbl>
              <a:tblPr/>
              <a:tblGrid>
                <a:gridCol w="2762280"/>
                <a:gridCol w="2803320"/>
                <a:gridCol w="2892600"/>
              </a:tblGrid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     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У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ЛЕК ИЗБО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АЛТЕРНАТИ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3eef5"/>
                    </a:solidFill>
                  </a:tcPr>
                </a:tc>
              </a:tr>
              <a:tr h="202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ff00"/>
                          </a:solidFill>
                          <a:latin typeface="Cooper Bold YU"/>
                        </a:rPr>
                        <a:t>Одојчад и деца до 4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Ceftriaxon /Cefotaxi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Vankomic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Ceftriaxon /Cefotaxi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Rifampic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3eef5"/>
                    </a:solidFill>
                  </a:tcPr>
                </a:tc>
              </a:tr>
              <a:tr h="168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ff00"/>
                          </a:solidFill>
                          <a:latin typeface="Cooper Bold YU"/>
                        </a:rPr>
                        <a:t>Деца 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ff00"/>
                          </a:solidFill>
                          <a:latin typeface="Cooper Bold YU"/>
                        </a:rPr>
                        <a:t>5 – 15 год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Ceftriaxon /Cefotaxi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Vankomic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Ampicilli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Chloramfenik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3ee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045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H. influenze                     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ff0000"/>
                </a:solidFill>
                <a:latin typeface="Lucida Sans Unicode"/>
              </a:rPr>
              <a:t>7-</a:t>
            </a:r>
            <a:r>
              <a:rPr b="1" lang="sr-C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ff0000"/>
                </a:solidFill>
                <a:latin typeface="Lucida Sans Unicode"/>
              </a:rPr>
              <a:t>10  </a:t>
            </a:r>
            <a:r>
              <a:rPr b="1" lang="sr-CS" sz="2700" spc="-1" strike="noStrike">
                <a:solidFill>
                  <a:srgbClr val="ff0000"/>
                </a:solidFill>
                <a:latin typeface="Lucida Sans Unicode"/>
              </a:rPr>
              <a:t>да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S. pneumoniae                </a:t>
            </a:r>
            <a:r>
              <a:rPr b="1" lang="sr-Latn-CS" sz="2700" spc="-1" strike="noStrike">
                <a:solidFill>
                  <a:srgbClr val="ff0000"/>
                </a:solidFill>
                <a:latin typeface="Lucida Sans Unicode"/>
              </a:rPr>
              <a:t>10</a:t>
            </a:r>
            <a:r>
              <a:rPr b="1" lang="sr-C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ff0000"/>
                </a:solidFill>
                <a:latin typeface="Lucida Sans Unicode"/>
              </a:rPr>
              <a:t>-14  </a:t>
            </a:r>
            <a:r>
              <a:rPr b="1" lang="sr-CS" sz="2700" spc="-1" strike="noStrike">
                <a:solidFill>
                  <a:srgbClr val="ff0000"/>
                </a:solidFill>
                <a:latin typeface="Lucida Sans Unicode"/>
              </a:rPr>
              <a:t>да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N. meningitidis                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ff0000"/>
                </a:solidFill>
                <a:latin typeface="Lucida Sans Unicode"/>
              </a:rPr>
              <a:t>5</a:t>
            </a:r>
            <a:r>
              <a:rPr b="1" lang="sr-C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ff0000"/>
                </a:solidFill>
                <a:latin typeface="Lucida Sans Unicode"/>
              </a:rPr>
              <a:t>-7    </a:t>
            </a:r>
            <a:r>
              <a:rPr b="1" lang="sr-CS" sz="2700" spc="-1" strike="noStrike">
                <a:solidFill>
                  <a:srgbClr val="ff0000"/>
                </a:solidFill>
                <a:latin typeface="Lucida Sans Unicode"/>
              </a:rPr>
              <a:t>да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5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дана од нормализације температур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5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дана од</a:t>
            </a:r>
            <a:r>
              <a:rPr b="0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стерилизације ликвора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–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контролна ЛП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Rectangle 2" descr=""/>
          <p:cNvPicPr/>
          <p:nvPr/>
        </p:nvPicPr>
        <p:blipFill>
          <a:blip r:embed="rId1"/>
          <a:stretch/>
        </p:blipFill>
        <p:spPr>
          <a:xfrm>
            <a:off x="324000" y="255600"/>
            <a:ext cx="83692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Object 4"/>
          <p:cNvGraphicFramePr/>
          <p:nvPr/>
        </p:nvGraphicFramePr>
        <p:xfrm>
          <a:off x="1752480" y="1828800"/>
          <a:ext cx="5486400" cy="39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828800"/>
                    <a:ext cx="5486400" cy="3927600"/>
                  </a:xfrm>
                  <a:prstGeom prst="rect">
                    <a:avLst/>
                  </a:prstGeom>
                  <a:ln cap="sq" w="1260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78" name="Rectangle 2" descr=""/>
          <p:cNvPicPr/>
          <p:nvPr/>
        </p:nvPicPr>
        <p:blipFill>
          <a:blip r:embed="rId3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6"/>
          <p:cNvSpPr/>
          <p:nvPr/>
        </p:nvSpPr>
        <p:spPr>
          <a:xfrm>
            <a:off x="3354480" y="259092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iseria m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5717160" y="25909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3353040" y="342900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emophilus i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5793480" y="3581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3200760" y="441972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pt. pneu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5564880" y="4419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Неуролошке секвеле се дуготрајно прате и могу се ублажити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рехабилитацијом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психолошком подршком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помагањем родитељим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6" name="Rectangle 2" descr=""/>
          <p:cNvPicPr/>
          <p:nvPr/>
        </p:nvPicPr>
        <p:blipFill>
          <a:blip r:embed="rId1"/>
          <a:stretch/>
        </p:blipFill>
        <p:spPr>
          <a:xfrm>
            <a:off x="291960" y="360360"/>
            <a:ext cx="8401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0520" y="7617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E 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Н Ц Е Ф А Л И Т И С  У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Д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Е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Ц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је запаљење можданог паренхима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које најчешће изазивају вируси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које се клинички манифестује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наглим почетк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прогресивним ток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честим комликацијам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високим леталитет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каснијим секвелам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088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ff00"/>
                </a:solidFill>
                <a:latin typeface="Lucida Sans Unicode"/>
              </a:rPr>
              <a:t>Примарни</a:t>
            </a:r>
            <a:r>
              <a:rPr b="1" lang="sr-Latn-C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енцефалитиси настају директном инвазијом можданог паренхима од стране инфективног аген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ff00"/>
                </a:solidFill>
                <a:latin typeface="Lucida Sans Unicode"/>
              </a:rPr>
              <a:t>С</a:t>
            </a:r>
            <a:r>
              <a:rPr b="1" lang="sr-Latn-CS" sz="2700" spc="-1" strike="noStrike">
                <a:solidFill>
                  <a:srgbClr val="00ff00"/>
                </a:solidFill>
                <a:latin typeface="Lucida Sans Unicode"/>
              </a:rPr>
              <a:t>екундарни</a:t>
            </a:r>
            <a:r>
              <a:rPr b="1" lang="sr-Latn-C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настају ширењем патолошког процеса узрокованог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: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инфекцијом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&gt;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пара-постинфективн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м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едикам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ент.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 или токсинима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&gt;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токсични енцеф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22824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Упала може да захвати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претежно белу масу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леукоенце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ф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литис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мали мозак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ромбенце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ф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литис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ли је најчешће дифузна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паненце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ф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литис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sr-Latn-CS" sz="2400" spc="-1" strike="noStrike">
                <a:solidFill>
                  <a:srgbClr val="ff0000"/>
                </a:solidFill>
                <a:latin typeface="Lucida Sans Unicode"/>
              </a:rPr>
              <a:t>Поред можданог ткива често су за</a:t>
            </a:r>
            <a:r>
              <a:rPr b="1" lang="ru-RU" sz="2400" spc="-1" strike="noStrike">
                <a:solidFill>
                  <a:srgbClr val="ff0000"/>
                </a:solidFill>
                <a:latin typeface="Lucida Sans Unicode"/>
              </a:rPr>
              <a:t>хваћене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мождане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опне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менингоенце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ф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литис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кичмена мождина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менингоенце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ф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ломyелитис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трансверзални мијелитис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енцефаломиелорадикулонеуритис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298440" y="219240"/>
            <a:ext cx="839484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cc33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70c0"/>
                </a:solidFill>
                <a:latin typeface="Lucida Sans Unicode"/>
              </a:rPr>
              <a:t>Hemophilus influenz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c33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c33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70c0"/>
                </a:solidFill>
                <a:latin typeface="Lucida Sans Unicode"/>
              </a:rPr>
              <a:t>Neisseria meningitidis         </a:t>
            </a:r>
            <a:r>
              <a:rPr b="0" lang="en-US" sz="36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0" lang="sr-Latn-CS" sz="36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en-US" sz="36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1" lang="sr-Latn-CS" sz="2700" spc="-1" strike="noStrike">
                <a:solidFill>
                  <a:srgbClr val="ff0000"/>
                </a:solidFill>
                <a:latin typeface="Lucida Sans Unicode"/>
              </a:rPr>
              <a:t>80%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c33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70c0"/>
                </a:solidFill>
                <a:latin typeface="Lucida Sans Unicode"/>
              </a:rPr>
              <a:t>Streptoco</a:t>
            </a:r>
            <a:r>
              <a:rPr b="0" lang="en-US" sz="3600" spc="-1" strike="noStrike">
                <a:solidFill>
                  <a:srgbClr val="0070c0"/>
                </a:solidFill>
                <a:latin typeface="Lucida Sans Unicode"/>
              </a:rPr>
              <a:t>c</a:t>
            </a:r>
            <a:r>
              <a:rPr b="0" lang="sr-Latn-CS" sz="3600" spc="-1" strike="noStrike">
                <a:solidFill>
                  <a:srgbClr val="0070c0"/>
                </a:solidFill>
                <a:latin typeface="Lucida Sans Unicode"/>
              </a:rPr>
              <a:t>cus pneumonia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4"/>
          <p:cNvSpPr/>
          <p:nvPr/>
        </p:nvSpPr>
        <p:spPr>
          <a:xfrm>
            <a:off x="6400800" y="1676520"/>
            <a:ext cx="609480" cy="3124080"/>
          </a:xfrm>
          <a:custGeom>
            <a:avLst/>
            <a:gdLst>
              <a:gd name="textAreaLeft" fmla="*/ 0 w 609480"/>
              <a:gd name="textAreaRight" fmla="*/ 219960 w 6094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Rectang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3" name=""/>
          <p:cNvGraphicFramePr/>
          <p:nvPr/>
        </p:nvGraphicFramePr>
        <p:xfrm>
          <a:off x="304920" y="1219320"/>
          <a:ext cx="8229600" cy="5546520"/>
        </p:xfrm>
        <a:graphic>
          <a:graphicData uri="http://schemas.openxmlformats.org/drawingml/2006/table">
            <a:tbl>
              <a:tblPr/>
              <a:tblGrid>
                <a:gridCol w="3714480"/>
                <a:gridCol w="451512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oper Bold YU"/>
                          <a:ea typeface="Times New Roman"/>
                        </a:rPr>
                        <a:t>ВИРУС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ентеровир., АРБО, ХСВ, инфлуен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r>
                        <a:rPr b="0" lang="sr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Times New Roman"/>
                        </a:rPr>
                        <a:t>неонатални период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ЦМВ, ХСВ тип 2, рубелла, ЕЦХ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oper Bold YU"/>
                          <a:ea typeface="Times New Roman"/>
                        </a:rPr>
                        <a:t>ПАРАИНФЕКТИВНИ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oper Bold YU"/>
                          <a:ea typeface="Times New Roman"/>
                        </a:rPr>
                        <a:t>ПОСТИНФЕКТИВ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r>
                        <a:rPr b="0" lang="sr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орбилле, варицелла, рубел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(5-20 дана од појаве осп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r>
                        <a:rPr b="0" lang="sr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омпликација вакцина прот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беснила, вариоле, морби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Cooper Bold YU"/>
                          <a:ea typeface="Times New Roman"/>
                        </a:rPr>
                        <a:t>СУБАКУТНИ И ХРОНИЧ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Cooper Bold YU"/>
                          <a:ea typeface="Times New Roman"/>
                        </a:rPr>
                        <a:t>(СПОРИ ВИРУСН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r>
                        <a:rPr b="0" lang="sr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СП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(морбилле, рубелла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r>
                        <a:rPr b="0" lang="sr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ројц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фелд-Јакобова боле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(приони)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oper Bold YU"/>
                          <a:ea typeface="Times New Roman"/>
                        </a:rPr>
                        <a:t>ЕНЦЕФАЛОПАТИЈ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r>
                        <a:rPr b="0" lang="sr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Ре</a:t>
                      </a: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ј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ов синдро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варицелле или грипа (+салицилати 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*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прогресивна мултифокална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леукоенцефалопатиј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(папова вир)</a:t>
                      </a: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У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многим областима АРБО вируси изазивају сезонске епидемије енцефалитис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Вектори су комарци или крпе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љ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источни и западни ко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ски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јапански Б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руски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сред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оевропски енцефалитис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западног Нил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У лето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епидемије ентеровирусних енцеф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(Коксаки А, тип 7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зиму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 епидемије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инфлуенца енцеф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Rectangle 2" descr=""/>
          <p:cNvPicPr/>
          <p:nvPr/>
        </p:nvPicPr>
        <p:blipFill>
          <a:blip r:embed="rId1"/>
          <a:stretch/>
        </p:blipFill>
        <p:spPr>
          <a:xfrm>
            <a:off x="291960" y="-12600"/>
            <a:ext cx="84013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У новорођенчади се због гениталног херпеса мајке</a:t>
            </a: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(ХСВ 2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јав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љ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а инфекција 1 на 2-5000 порођаја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која се у 30% манифестује као неонаталн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менингоенцефалитис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ХСВ може доспети до ЦНС-а на три начина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путем хематогене дисеминациј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путем олфактивних влакан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ретроградним шире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ем из ганглион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према мозг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7" name="Rectangle 2" descr=""/>
          <p:cNvPicPr/>
          <p:nvPr/>
        </p:nvPicPr>
        <p:blipFill>
          <a:blip r:embed="rId1"/>
          <a:stretch/>
        </p:blipFill>
        <p:spPr>
          <a:xfrm>
            <a:off x="291960" y="60480"/>
            <a:ext cx="840132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КЛИНИЧКА СЛИК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НАЛАЗ У ЛИКВОР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ЕЕГ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ЦТ, МР, ПЕ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ИЗОЛАЦИЈА ВИРУ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БИОПСИЈА МОЗГ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9" name="Rectangle 2" descr=""/>
          <p:cNvPicPr/>
          <p:nvPr/>
        </p:nvPicPr>
        <p:blipFill>
          <a:blip r:embed="rId1"/>
          <a:stretch/>
        </p:blipFill>
        <p:spPr>
          <a:xfrm>
            <a:off x="231840" y="-36360"/>
            <a:ext cx="846144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228600" y="9144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У неонатуса херпесни менингоенцеф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се јав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љ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 као део дисеминоване инфекције крајем I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неде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љ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е, или као изоловани енцефалитис обично у II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или III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неде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љ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Lucida Sans Unicode"/>
              </a:rPr>
              <a:t>Кожне промене</a:t>
            </a:r>
            <a:r>
              <a:rPr b="1" lang="sr-Latn-C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Lucida Sans Unicode"/>
              </a:rPr>
              <a:t>(везикуле, макулопапуле, крусте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Lucida Sans Unicode"/>
              </a:rPr>
              <a:t>у склопу дисеминоване ХСВ 2 инфекције</a:t>
            </a:r>
            <a:r>
              <a:rPr b="1" lang="sr-Latn-CS" sz="2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Lucida Sans Unicode"/>
              </a:rPr>
              <a:t>Л</a:t>
            </a:r>
            <a:r>
              <a:rPr b="1" lang="sr-Latn-CS" sz="2400" spc="-1" strike="noStrike">
                <a:solidFill>
                  <a:srgbClr val="00ff00"/>
                </a:solidFill>
                <a:latin typeface="Lucida Sans Unicode"/>
              </a:rPr>
              <a:t>езије на слузницама</a:t>
            </a:r>
            <a:r>
              <a:rPr b="1" lang="sr-C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Lucida Sans Unicode"/>
              </a:rPr>
              <a:t>(кератоко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њ</a:t>
            </a:r>
            <a:r>
              <a:rPr b="1" lang="sr-Latn-CS" sz="2400" spc="-1" strike="noStrike">
                <a:solidFill>
                  <a:srgbClr val="ff0000"/>
                </a:solidFill>
                <a:latin typeface="Lucida Sans Unicode"/>
              </a:rPr>
              <a:t>унктивитис, хориоретинитис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Lucida Sans Unicode"/>
              </a:rPr>
              <a:t>обично претходе знацима оштеће</a:t>
            </a: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ff0000"/>
                </a:solidFill>
                <a:latin typeface="Lucida Sans Unicode"/>
              </a:rPr>
              <a:t>а ЦНС-а</a:t>
            </a:r>
            <a:r>
              <a:rPr b="1" lang="sr-Latn-CS" sz="2800" spc="-1" strike="noStrike">
                <a:solidFill>
                  <a:srgbClr val="ffff00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1" name="Rectangle 2" descr=""/>
          <p:cNvPicPr/>
          <p:nvPr/>
        </p:nvPicPr>
        <p:blipFill>
          <a:blip r:embed="rId1"/>
          <a:stretch/>
        </p:blipFill>
        <p:spPr>
          <a:xfrm>
            <a:off x="268200" y="212760"/>
            <a:ext cx="8425080" cy="708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herp neonat 1"/>
          <p:cNvPicPr/>
          <p:nvPr/>
        </p:nvPicPr>
        <p:blipFill>
          <a:blip r:embed="rId2"/>
          <a:stretch/>
        </p:blipFill>
        <p:spPr>
          <a:xfrm>
            <a:off x="838080" y="5086440"/>
            <a:ext cx="2468520" cy="17715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03" name="Picture 5" descr="herp keratokonj"/>
          <p:cNvPicPr/>
          <p:nvPr/>
        </p:nvPicPr>
        <p:blipFill>
          <a:blip r:embed="rId3"/>
          <a:stretch/>
        </p:blipFill>
        <p:spPr>
          <a:xfrm>
            <a:off x="3352680" y="5116680"/>
            <a:ext cx="2727360" cy="1741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04" name="Picture 6" descr="oral herp"/>
          <p:cNvPicPr/>
          <p:nvPr/>
        </p:nvPicPr>
        <p:blipFill>
          <a:blip r:embed="rId4"/>
          <a:stretch/>
        </p:blipFill>
        <p:spPr>
          <a:xfrm>
            <a:off x="6324480" y="5029200"/>
            <a:ext cx="2468520" cy="1828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04560" y="9144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Ране манифестације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болести 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су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ритабилнос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летаргија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повраћа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е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оремећај свести се брзо продуб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љ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ује до ком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неонаталне конвулзије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промене тонуса (парезе екстремитета)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дистонија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децеребр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 ригидност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нистагмус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напета фонтанела</a:t>
            </a: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298440" y="219240"/>
            <a:ext cx="839484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0" y="9144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У деце након неонаталног период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најраниј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 знаци с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главобо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љ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промена понаша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пови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ш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ена температур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повраћа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малаксалос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иритабилност или летаргиј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ff0000"/>
                </a:solidFill>
                <a:latin typeface="Lucida Sans Unicode"/>
              </a:rPr>
              <a:t>За неколико дана болест прогредира појавом</a:t>
            </a:r>
            <a:r>
              <a:rPr b="1" lang="sr-C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00ff00"/>
                </a:solidFill>
                <a:latin typeface="Lucida Sans Unicode"/>
              </a:rPr>
              <a:t>фокалних неуролошких знакова</a:t>
            </a:r>
            <a:r>
              <a:rPr b="1" lang="sr-Latn-C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(који су </a:t>
            </a:r>
            <a:r>
              <a:rPr b="1" lang="sr-Latn-CS" sz="2800" spc="-1" strike="noStrike">
                <a:solidFill>
                  <a:srgbClr val="ff0000"/>
                </a:solidFill>
                <a:latin typeface="Lucida Sans Unicode"/>
              </a:rPr>
              <a:t>израженији у старије деце</a:t>
            </a: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)</a:t>
            </a:r>
            <a:r>
              <a:rPr b="1" lang="sr-Latn-CS" sz="2800" spc="-1" strike="noStrike">
                <a:solidFill>
                  <a:srgbClr val="ff0000"/>
                </a:solidFill>
                <a:latin typeface="Lucida Sans Unicode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Lucida Sans Unicode"/>
              </a:rPr>
              <a:t>парцијални епи напад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Lucida Sans Unicode"/>
              </a:rPr>
              <a:t>афазиј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Lucida Sans Unicode"/>
              </a:rPr>
              <a:t>хемипарез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Lucida Sans Unicode"/>
              </a:rPr>
              <a:t>парезе кранијалних нерава идр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228600" y="533160"/>
            <a:ext cx="86868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Други пратећи знаци болести: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халуцинациј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утономни поремећај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знаци повећа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 интракр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притиска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поремећај свести , све до ком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д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ецеребрација, услед компресије мезенцеф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обично претходи кардиореспир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аторном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застој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Lucida Sans Unicode"/>
              </a:rPr>
              <a:t>ЛИКВОР</a:t>
            </a:r>
            <a:r>
              <a:rPr b="1" lang="sr-Latn-C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је бистар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протеинорахија повишена ((0.6 до 2г/л)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гликорахиј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а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је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нормалн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а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број ћелија је </a:t>
            </a: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50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до 1000 у мм3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углавном лимфоцит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У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 почетку болести у могу </a:t>
            </a: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се наћи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      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полиморфонукл</a:t>
            </a: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еар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К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онтролна пункција за 24-48h покаже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увек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конверзију у мононуклеарну плеоцитоз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1" name="Rectangle 2" descr=""/>
          <p:cNvPicPr/>
          <p:nvPr/>
        </p:nvPicPr>
        <p:blipFill>
          <a:blip r:embed="rId1"/>
          <a:stretch/>
        </p:blipFill>
        <p:spPr>
          <a:xfrm>
            <a:off x="291960" y="-30240"/>
            <a:ext cx="840132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0456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узнемиреност или поспаност  с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развијају и неколико дан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конфузија, фотофобија и хиперестезиј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температура, главобоља, мука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 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повраћање, укочен вра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поремећај свести, конвулзије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фотофобиј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ређе настаје застојна папила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68200" y="-23760"/>
            <a:ext cx="84250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22860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Lucida Sans Unicode"/>
              </a:rPr>
              <a:t>ЕЕГ НАЛАЗ</a:t>
            </a:r>
            <a:r>
              <a:rPr b="1" lang="sr-Latn-CS" sz="2800" spc="-1" strike="noStrike">
                <a:solidFill>
                  <a:srgbClr val="ffff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Н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ајсензитивнији тест за рано открива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фокалног карактера енцефалитис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Ј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еднострана епилептиформна праж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е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а, или ирегуларни, периодични спори, Делта талас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Промене су локализоване над фронталним и темпоралним лобусима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Б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илатералне су непово</a:t>
            </a: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љ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ан прогностички знак.</a:t>
            </a:r>
            <a:r>
              <a:rPr b="0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0880" y="9144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ff00"/>
                </a:solidFill>
                <a:latin typeface="Lucida Sans Unicode"/>
              </a:rPr>
              <a:t>НЕУРОРАДИОЛОГИЈА</a:t>
            </a:r>
            <a:r>
              <a:rPr b="1" lang="sr-Latn-CS" sz="2700" spc="-1" strike="noStrike">
                <a:solidFill>
                  <a:srgbClr val="00ff00"/>
                </a:solidFill>
                <a:latin typeface="Lucida Sans Unicode"/>
              </a:rPr>
              <a:t>:</a:t>
            </a:r>
            <a:r>
              <a:rPr b="1" lang="en-U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ЦТ и МР показују током прогресије болест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зоне сма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ене густине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фокални едем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тумурозне формације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понекад и хеморагична ог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ишта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8088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Lucida Sans Unicode"/>
              </a:rPr>
              <a:t>ИЗОЛАЦИЈА ВИРУСА</a:t>
            </a:r>
            <a:r>
              <a:rPr b="1" lang="sr-Latn-CS" sz="2800" spc="-1" strike="noStrike">
                <a:solidFill>
                  <a:srgbClr val="00ff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Изолација вируса из ликвора је готово немогућ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С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Р или ЕЛИСА тестом може урадити брза 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идентификација антигена ХС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Lucida Sans Unicode"/>
              </a:rPr>
              <a:t>СЕРОЛОШКИ НАЛАЗИ</a:t>
            </a:r>
            <a:r>
              <a:rPr b="1" lang="sr-Latn-CS" sz="2800" spc="-1" strike="noStrike">
                <a:solidFill>
                  <a:srgbClr val="00ff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Н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алаз специфичних ИгМ антитела 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серуму и ликвору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80880" y="380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Lucida Sans Unicode"/>
              </a:rPr>
              <a:t>БИОПСИЈА МОЗГА</a:t>
            </a:r>
            <a:r>
              <a:rPr b="1" lang="sr-Latn-CS" sz="2700" spc="-1" strike="noStrike">
                <a:solidFill>
                  <a:srgbClr val="c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70c0"/>
                </a:solidFill>
                <a:latin typeface="Lucida Sans Unicode"/>
              </a:rPr>
              <a:t>П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оуздан метод за брзу дијагнозу херп</a:t>
            </a:r>
            <a:r>
              <a:rPr b="1" lang="ru-RU" sz="2700" spc="-1" strike="noStrike">
                <a:solidFill>
                  <a:srgbClr val="0070c0"/>
                </a:solidFill>
                <a:latin typeface="Lucida Sans Unicode"/>
              </a:rPr>
              <a:t>. е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нцефалити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Патохистолошки се уочавају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1" lang="sr-Latn-CS" sz="2300" spc="-1" strike="noStrike">
                <a:solidFill>
                  <a:srgbClr val="0070c0"/>
                </a:solidFill>
                <a:latin typeface="Lucida Sans Unicode"/>
              </a:rPr>
              <a:t>периваскуларни инфилтрати, уз присуство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1" lang="sr-Latn-CS" sz="2300" spc="-1" strike="noStrike">
                <a:solidFill>
                  <a:srgbClr val="0070c0"/>
                </a:solidFill>
                <a:latin typeface="Lucida Sans Unicode"/>
              </a:rPr>
              <a:t>еозинофилних интрануклеарних инклузија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(А инклузије Cowdry-евог типа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Rectang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8" name=""/>
          <p:cNvGraphicFramePr/>
          <p:nvPr/>
        </p:nvGraphicFramePr>
        <p:xfrm>
          <a:off x="228600" y="1295280"/>
          <a:ext cx="8458200" cy="5257800"/>
        </p:xfrm>
        <a:graphic>
          <a:graphicData uri="http://schemas.openxmlformats.org/drawingml/2006/table">
            <a:tbl>
              <a:tblPr/>
              <a:tblGrid>
                <a:gridCol w="2200320"/>
                <a:gridCol w="6257880"/>
              </a:tblGrid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ВИРУС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224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имфоцитни хориоменинг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, ССПЕ, АРБО енц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еф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1224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БАКТЕРИЈ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r>
                        <a:rPr b="1" lang="sr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ик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обацтериум туберцулосис, 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апсцес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убдурални емпијем</a:t>
                      </a:r>
                      <a:r>
                        <a:rPr b="1" lang="sr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листериоза </a:t>
                      </a:r>
                      <a:r>
                        <a:rPr b="1" lang="sr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ЦНС-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ГЉИВИЦ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sr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риптококус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, Н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r>
                        <a:rPr b="1" lang="sr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ардио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ис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ПАРАЗИ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То</a:t>
                      </a:r>
                      <a:r>
                        <a:rPr b="1" lang="sr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с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опласма Гондии, Амебија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АЛИГНИТ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Леукоза, ЦНС тумор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ЦЕРЕБРОВАС БОЛЕ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АХ, васкуларне малформације, инфаркциј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ЕНЦЕФАЛО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2240">
                      <a:solidFill>
                        <a:srgbClr val="969696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Ре</a:t>
                      </a:r>
                      <a:r>
                        <a:rPr b="1" lang="sr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ј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ов синдр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2240">
                      <a:solidFill>
                        <a:srgbClr val="969696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Уколико постоји сум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 на херпесни енцефалитис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свако фебрилно дете са парцијалним епи нападима или фокалним неуролошким знацима, уз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прогресивно погорша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е ста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 свест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без одлага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 треба применити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CIKLOVI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у дневној дози од 30мг/кг (на 8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у 50-100мл инфузионог расвор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у току 10-14 дана.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0" name="Rectangle 2" descr=""/>
          <p:cNvPicPr/>
          <p:nvPr/>
        </p:nvPicPr>
        <p:blipFill>
          <a:blip r:embed="rId1"/>
          <a:stretch/>
        </p:blipFill>
        <p:spPr>
          <a:xfrm>
            <a:off x="324000" y="219240"/>
            <a:ext cx="836928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228240" y="5331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Лече</a:t>
            </a: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е енцефалитиса се спроводи у </a:t>
            </a: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ЈИН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и обухвата</a:t>
            </a: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одржава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е виталних функција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400" spc="-1" strike="noStrike">
                <a:solidFill>
                  <a:srgbClr val="0070c0"/>
                </a:solidFill>
                <a:latin typeface="Lucida Sans Unicode"/>
              </a:rPr>
              <a:t>кардио</a:t>
            </a:r>
            <a:r>
              <a:rPr b="1" lang="en-US" sz="2400" spc="-1" strike="noStrike">
                <a:solidFill>
                  <a:srgbClr val="0070c0"/>
                </a:solidFill>
                <a:latin typeface="Lucida Sans Unicode"/>
              </a:rPr>
              <a:t>респираторн</a:t>
            </a: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у</a:t>
            </a:r>
            <a:r>
              <a:rPr b="1" lang="sr-Latn-CS" sz="2400" spc="-1" strike="noStrike">
                <a:solidFill>
                  <a:srgbClr val="0070c0"/>
                </a:solidFill>
                <a:latin typeface="Lucida Sans Unicode"/>
              </a:rPr>
              <a:t> подршк</a:t>
            </a: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400" spc="-1" strike="noStrike">
                <a:solidFill>
                  <a:srgbClr val="0070c0"/>
                </a:solidFill>
                <a:latin typeface="Lucida Sans Unicode"/>
              </a:rPr>
              <a:t>симптоматску терапију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антиконвулзиви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осмотерапија-кортикостероид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диуретиц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рестрикција течност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електролитни баланс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енергетска надокнад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Latn-CS" sz="2400" spc="-1" strike="noStrike">
                <a:solidFill>
                  <a:srgbClr val="0070c0"/>
                </a:solidFill>
                <a:latin typeface="Lucida Sans Unicode"/>
              </a:rPr>
              <a:t>нег</a:t>
            </a: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04560" y="6858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МОРТАЛИТЕ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3304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у неонаталном периоду 20-80%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3304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слич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н је и код нелечене старије деце 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цикловир дат у почетној фази болест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3304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сма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ује морталитет на 20-30% 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3304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доприноси ма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ој учесталости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еквел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НЕУРОЛОШКЕ СЕКВЕЛЕ</a:t>
            </a:r>
            <a:r>
              <a:rPr b="1" lang="sr-CS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заостају у преко 50% преживелих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3304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3020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микроцефалија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3020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ментална и/или моторна ретардациј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3020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пилепсиј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3020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лепил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3020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глувоћа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3" name="Rectangle 2" descr=""/>
          <p:cNvPicPr/>
          <p:nvPr/>
        </p:nvPicPr>
        <p:blipFill>
          <a:blip r:embed="rId1"/>
          <a:stretch/>
        </p:blipFill>
        <p:spPr>
          <a:xfrm>
            <a:off x="291960" y="-60480"/>
            <a:ext cx="8401320" cy="7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температур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главобољ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мук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повраћањ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291960" y="55440"/>
            <a:ext cx="84013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4"/>
          <p:cNvGrpSpPr/>
          <p:nvPr/>
        </p:nvGrpSpPr>
        <p:grpSpPr>
          <a:xfrm>
            <a:off x="4674960" y="1600200"/>
            <a:ext cx="3218040" cy="4572000"/>
            <a:chOff x="4674960" y="1600200"/>
            <a:chExt cx="3218040" cy="4572000"/>
          </a:xfrm>
        </p:grpSpPr>
        <p:pic>
          <p:nvPicPr>
            <p:cNvPr id="392" name="Picture 5" descr="Symptoms_of_Meningitis 1"/>
            <p:cNvPicPr/>
            <p:nvPr/>
          </p:nvPicPr>
          <p:blipFill>
            <a:blip r:embed="rId2"/>
            <a:stretch/>
          </p:blipFill>
          <p:spPr>
            <a:xfrm>
              <a:off x="4724280" y="1600200"/>
              <a:ext cx="3168720" cy="457200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393" name="Rectangle 6"/>
            <p:cNvSpPr/>
            <p:nvPr/>
          </p:nvSpPr>
          <p:spPr>
            <a:xfrm>
              <a:off x="4674960" y="1981080"/>
              <a:ext cx="20674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Cooper Bold YU"/>
                </a:rPr>
                <a:t>ЦН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главобољ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промена располо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>
              <a:off x="4724280" y="266688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Cooper Bold YU"/>
                </a:rPr>
                <a:t>СЛУ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фонофобиј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8"/>
            <p:cNvSpPr/>
            <p:nvPr/>
          </p:nvSpPr>
          <p:spPr>
            <a:xfrm>
              <a:off x="4724280" y="32004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Cooper Bold YU"/>
                </a:rPr>
                <a:t>ВИ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фотофобиј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9"/>
            <p:cNvSpPr/>
            <p:nvPr/>
          </p:nvSpPr>
          <p:spPr>
            <a:xfrm>
              <a:off x="4724280" y="373356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Cooper Bold YU"/>
                </a:rPr>
                <a:t>ВР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укоченос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4724280" y="4267080"/>
              <a:ext cx="175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Cooper Bold YU"/>
                </a:rPr>
                <a:t>СИСТЕМС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висока темпер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4724280" y="4800600"/>
              <a:ext cx="16002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Cooper Bold YU"/>
                </a:rPr>
                <a:t>КОЖ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петехиј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(менингокок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3097080"/>
                <a:gridCol w="1943280"/>
                <a:gridCol w="1657440"/>
                <a:gridCol w="15318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ПТО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нат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јч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Повраћа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Анорекс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Летарг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Иритабилн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Му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Главобољ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Бол у вра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Конфуз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Фотофоб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Хиперестез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685800" y="228600"/>
          <a:ext cx="8229600" cy="6211800"/>
        </p:xfrm>
        <a:graphic>
          <a:graphicData uri="http://schemas.openxmlformats.org/drawingml/2006/table">
            <a:tbl>
              <a:tblPr/>
              <a:tblGrid>
                <a:gridCol w="3048120"/>
                <a:gridCol w="1863720"/>
                <a:gridCol w="1792080"/>
                <a:gridCol w="1525680"/>
              </a:tblGrid>
              <a:tr h="12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Ц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нат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јче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ца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Темп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+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Конвулз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+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Дијаре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Жут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Метеориз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Респираторни дистр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Ш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кочен в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ernig / Bružins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пистото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70c0"/>
                </a:solidFill>
                <a:uFillTx/>
                <a:latin typeface="Lucida Sans Unicode"/>
              </a:rPr>
              <a:t>Доминирају симптоми и знац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70c0"/>
                </a:solidFill>
                <a:uFillTx/>
                <a:latin typeface="Lucida Sans Unicode"/>
              </a:rPr>
              <a:t>сепсе и шока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развој симптома траје неколико сат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(брзи пораст температуре, губитак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апетита, мука, повраћање, интракр. хипер.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конвулзије су честе, а прогресивн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поремећај свести се брзо завршава комом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291960" y="55440"/>
            <a:ext cx="8401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00:36:43Z</dcterms:created>
  <dc:creator>Igrutinovic</dc:creator>
  <dc:description/>
  <dc:language>en-US</dc:language>
  <cp:lastModifiedBy>Igrutinovic</cp:lastModifiedBy>
  <dcterms:modified xsi:type="dcterms:W3CDTF">2011-12-27T05:26:13Z</dcterms:modified>
  <cp:revision>14</cp:revision>
  <dc:subject/>
  <dc:title>МЕНИНГИТИС И ЕНЦЕФАЛИТИС  У ДЕЦЕ </dc:title>
</cp:coreProperties>
</file>